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C615-DD46-4C3A-8C73-38A8A1A87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8993-91B9-4DB1-B2B5-467037E7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3C2E-3E40-4754-A412-65531195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72F-D01A-4CD6-BB9D-BE16BA55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376F-EF04-45D0-ABAC-6688B5AE2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48CE-C461-4044-A0B7-187B3485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ED29-EF70-446C-B19C-8CAFBDB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67D7-A85B-41A3-BB80-113BAC5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A82-1822-48C6-AFA8-9612074D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5813-CA86-4908-8F34-81959696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498F9-23F7-4669-B51D-EA9E4918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3B4-FB1D-4BB7-A5AF-781C221B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CB03-F409-4D18-8066-E07F9DAE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B1DE7-363D-466C-98E2-92A08220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A1B7-D34E-43AB-BA29-7D1F8068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F99F-3FD2-4993-B49E-8E245DA5A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DFAA-992A-49E7-A78F-81AF4688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2AF7-992A-4974-9F36-ED457146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7B35-6F9E-481C-AD13-3D7117278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02CF-DE0E-477F-95B6-D6618832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E09-632F-422F-A113-0E7AF0EA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CAF-0D56-4AE0-A891-10AAE904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D14-B82D-4409-8BFD-539C689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BDA-3A35-4F35-91EB-F8C50C4D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3238560" y="685800"/>
            <a:ext cx="4114800" cy="31240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296" y="-26254"/>
                </a:moveTo>
                <a:arcTo wR="32000" hR="32000" stAng="-3307659" swAng="6615318"/>
                <a:moveTo>
                  <a:pt x="18296" y="26254"/>
                </a:moveTo>
                <a:arcTo wR="32000" hR="32000" stAng="3307659" swAng="61"/>
                <a:lnTo>
                  <a:pt x="18296" y="26255"/>
                </a:lnTo>
                <a:lnTo>
                  <a:pt x="18296" y="-26255"/>
                </a:lnTo>
                <a:lnTo>
                  <a:pt x="18296" y="-26254"/>
                </a:lnTo>
                <a:arcTo wR="32000" hR="32000" stAng="-3307720" swAng="61"/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2425680" y="0"/>
            <a:ext cx="3093840" cy="315432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077" y="-26405"/>
                </a:moveTo>
                <a:arcTo wR="32000" hR="32000" stAng="-3336253" swAng="6672506"/>
                <a:moveTo>
                  <a:pt x="18077" y="26405"/>
                </a:moveTo>
                <a:arcTo wR="32000" hR="32000" stAng="3336253" swAng="61"/>
                <a:lnTo>
                  <a:pt x="18077" y="26406"/>
                </a:lnTo>
                <a:lnTo>
                  <a:pt x="18077" y="-26406"/>
                </a:lnTo>
                <a:lnTo>
                  <a:pt x="18077" y="-26405"/>
                </a:lnTo>
                <a:arcTo wR="32000" hR="32000" stAng="-3336314" swAng="61"/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7CC6-1DFE-4E9F-A336-9295DC008AD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5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D23D-AC9E-466A-861E-98D2EE2CBF0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s de España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(Localización, Temperaturas, Precipitaciones, Flora y Faun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Los tipos de Clim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Oceáni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Continent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Mediterráne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Continental con influencia mediterráne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Subtropic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Clima de Montaña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s de España</a:t>
            </a:r>
            <a:br>
              <a:rPr sz="3200"/>
            </a:br>
            <a:r>
              <a:rPr b="0" lang="es-E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6666"/>
                </a:solidFill>
                <a:latin typeface="Arial"/>
              </a:rPr>
              <a:t>(Localización, Temperaturas, Precipitaciones, Flora y Fauna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24000" y="1622520"/>
            <a:ext cx="5327640" cy="4787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4080" y="260280"/>
            <a:ext cx="462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 Black"/>
              </a:rPr>
              <a:t>Clima  Oceá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1628640"/>
            <a:ext cx="849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opio de  Galicia y otras zonas del Cantábrico (Asturias, Cantabria y País Vasc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uaves temperaturas todo el año, aunque más frescas en invierno que en veran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bundantes precipitaciones, repartidas durante todo el año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Prados y bosques de hoja caduca. Abundante y frondos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ayas, robles y castañ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Helecho y Brez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63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063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Jabalíes, osos y corz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03280" y="865080"/>
            <a:ext cx="6985080" cy="6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" dur="20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2" dur="20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20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49120" y="260280"/>
            <a:ext cx="535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 Black"/>
              </a:rPr>
              <a:t>Clima  Continent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700280"/>
            <a:ext cx="799308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io de  las tierras del interior de la Península a las que no llega la influencia del 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xtremas: inviernos fríos y veranos muy caluro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escasas y predominan en primavera y otoñ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rboles esca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cinas y p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125"/>
              </a:spcBef>
              <a:buClr>
                <a:srgbClr val="0066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1125"/>
              </a:spcBef>
              <a:buClr>
                <a:srgbClr val="99cc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abalíes, conejos, zorros, ciervos, perdic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7140600" cy="704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3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2000"/>
                                        <p:tgtEl>
                                          <p:spTgt spid="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1" dur="2000"/>
                                        <p:tgtEl>
                                          <p:spTgt spid="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  Mediterráneo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827000"/>
            <a:ext cx="785664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 registra en las zonas próximas al mar Mediterráneo, en la costa atlántica andaluza, en las islas Baleares, en Ceuta y en Melill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temperaturas son suaves en inviernos y cálidas en veran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lluvias son escasas y muy irregulares; no obstante, en otoño pueden producirse lluvias torrenci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ncinas, Alcornoques y el Pin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También abundan los matorral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iervo, lince  y cone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2440" y="727200"/>
            <a:ext cx="6649920" cy="75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8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1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4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9" dur="2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2" dur="2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3" dur="2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6666"/>
                </a:solidFill>
                <a:latin typeface="Arial"/>
              </a:rPr>
              <a:t>Clima  Continental con influencia Mediterránea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827360"/>
            <a:ext cx="785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s propio del sur de la Meseta y de buena parte del río Guadalquivir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os inviernos son menos fríos que el clima continental, pero los veranos son más caluros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as lluvias son escasas pero algo más abundante que en el clima continental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Encinas y Alcornoques en dehesas, y plantaciones de olivos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374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Lince, perdiz y conejo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9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4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7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5" dur="20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8" dur="20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18900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Clima  Subtropical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827360"/>
            <a:ext cx="777564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slas Canari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on cálidas y suaves  durante todo el año. Por eso, casi no hay difererencia entre el invierno y el veran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s lluvias son muy escasas y predominan mas  en la zona norte de las islas que en la zona su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urisilva, dragos, pino canario tabailas y laurel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Lagarto gigante, el canario y la hubar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66720" y="763560"/>
            <a:ext cx="6892920" cy="72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lima de  Montañ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 encuentra en las zonas más altas de las montañas. Aparece a menor altitud cuanto más al norte estén las montañ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mperatura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Inviernos muy fríos y veranos frescos. En verano pueden ser cálidos en las horas diu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Precipitacione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Abundantes durante casi todo el año y a menudo en forma de nie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lor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s muy escasa por la altitud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astaños, robles y abe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Faun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6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Destaca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lnSpc>
                <a:spcPct val="90000"/>
              </a:lnSpc>
              <a:spcBef>
                <a:spcPts val="425"/>
              </a:spcBef>
              <a:buClr>
                <a:srgbClr val="99cccc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Quebrantahuesos y cabra mont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87280" y="755640"/>
            <a:ext cx="7417080" cy="72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actores que influyen en el clim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titud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ta actúa sobre la temperatura. Mientras más próximo al Ecuador se esté, más cálida será la temperatura; pero si uno se va acercando a los polos, la temperatura descenderá considerablem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titud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la distancia (altura) de un lugar de la superficie terrestre con relación al nivel del mar. Los elementos afectados son la lluvia y la temperatura. En las zonas de mayor altitud el aire no puede retener el calor, por lo que las temperaturas son bajas. En cambio, en las de menor altitud sucede lo contrari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rrientes Marinas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fecta a la temperatura, humedad y pluviosidad o lluvia. Los lugares más cercanos al mar poseen temperaturas más moderadas y con menor oscilación térmica (la diferencia entre la temperatura máxima y mínima del día) que el interior de los continen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lieve: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Por forma y posición actúa sobre las temperaturas y las precipitaciones. Para los vientos es como un biombo climático. También produce diferencias de insolación según la ladera expuesta y modifica el régimen de precipitaciones, de acuerdo a la falda de barlovento (abierta al viento) y a la de sotavento (protegidas del viento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pe Portillo</cp:lastModifiedBy>
  <dcterms:modified xsi:type="dcterms:W3CDTF">2010-03-06T16:25:37Z</dcterms:modified>
  <cp:revision>65</cp:revision>
  <dc:subject/>
  <dc:title>PowerPoint Presentation</dc:title>
</cp:coreProperties>
</file>