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1F5-E0E8-4DAE-8E98-10A24BB8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BE4-7C52-4821-9281-A20C17F1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E1A-3F47-4C33-9542-FC1AA8A4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DD9-3035-4CF6-B67E-2F3CEE20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8084-DEC1-4C0C-A54B-5DE8873E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C848-09EB-4A1F-A53A-6FCE1748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0948-533A-41FE-9F83-705ACF08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38C8-E20E-4A2B-BEFD-6273A6DC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1491-FE94-4ADE-AB8A-9236E5DB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960A-66A3-4CD4-885D-CE35D6E6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3060-B764-4F38-81A5-A93CF638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467-2D26-4414-8FD9-5EB647EA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AF38-1E51-4177-BB70-5335A455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1861-431A-4E8B-8AA8-5864A280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4E9E-E8B3-4666-8AFB-DF7DDD96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1F26-3CDF-4ADD-A34C-EA1CCE67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DDDD-601E-41C0-9989-4D362E77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CC9-5FB2-4BA5-A508-86B1463B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FEF-023F-47DB-A5D4-0008BF2C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A4F-2AAE-40F6-8177-4C979E0B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967-1E4D-473C-B15F-1B147239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CEC-98BC-4FF9-9722-FD9B0689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21F0-2E63-4209-A116-01286757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47B-7E3F-4DC6-8771-C26EE604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38560" y="685800"/>
            <a:ext cx="4114800" cy="31240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425680" y="0"/>
            <a:ext cx="309384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EFDC-9E70-409D-A475-629869ECF9C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5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C826-63FB-4894-B692-F869002FE33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6666"/>
                </a:solidFill>
                <a:latin typeface="Arial"/>
              </a:rPr>
              <a:t>Climas de España</a:t>
            </a:r>
            <a:br>
              <a:rPr sz="3200"/>
            </a:b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(Localización, Temperaturas, Precipitaciones, Flora y Fauna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os tipos de Cli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ma Oceánic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ma Continent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ma Mediterráne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ma Continental con influencia mediterráne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ma Subtropic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ma de Montañ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6666"/>
                </a:solidFill>
                <a:latin typeface="Arial"/>
              </a:rPr>
              <a:t>Climas de España</a:t>
            </a:r>
            <a:br>
              <a:rPr sz="3200"/>
            </a:b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(Localización, Temperaturas, Precipitaciones, Flora y Fauna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24000" y="1622520"/>
            <a:ext cx="5327640" cy="478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34080" y="260280"/>
            <a:ext cx="46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66"/>
                </a:solidFill>
                <a:latin typeface="Arial Black"/>
              </a:rPr>
              <a:t>Clima  Oceán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628640"/>
            <a:ext cx="849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63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Propio de  Galicia y otras zonas del Cantábrico (Asturias, Cantabria y País Vasc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63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Temperatur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063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uaves temperaturas todo el año, aunque más frescas en invierno que en veran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63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063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bundantes precipitaciones, repartidas durante todo el añ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63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lo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063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Prados y bosques de hoja caduca. Abundante y frondos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063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063"/>
              </a:spcBef>
              <a:buClr>
                <a:srgbClr val="99cc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Hayas, robles y castañ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063"/>
              </a:spcBef>
              <a:buClr>
                <a:srgbClr val="99cc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Helecho y Brez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63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au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063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063"/>
              </a:spcBef>
              <a:buClr>
                <a:srgbClr val="99cc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Jabalíes, osos y corz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03280" y="865080"/>
            <a:ext cx="6985080" cy="62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49120" y="260280"/>
            <a:ext cx="535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66"/>
                </a:solidFill>
                <a:latin typeface="Arial Black"/>
              </a:rPr>
              <a:t>Clima  Contin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700280"/>
            <a:ext cx="79930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io de  las tierras del interior de la Península a las que no llega la influencia del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mpera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tremas: inviernos fríos y veranos muy caluros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escasas y predominan en primavera y oto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l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Árboles esca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125"/>
              </a:spcBef>
              <a:buClr>
                <a:srgbClr val="99cc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inas y p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125"/>
              </a:spcBef>
              <a:buClr>
                <a:srgbClr val="99cc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abalíes, conejos, zorros, ciervos, perdic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87280" y="852480"/>
            <a:ext cx="7140600" cy="704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66"/>
                </a:solidFill>
                <a:latin typeface="Arial"/>
              </a:rPr>
              <a:t>Clima  Mediterráneo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827000"/>
            <a:ext cx="785664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e registra en las zonas próximas al mar Mediterráneo, en la costa atlántica andaluza, en las islas Baleares, en Ceuta y en Melill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Temperatur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s temperaturas son suaves en inviernos y cálidas en veran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s lluvias son escasas y muy irregulares; no obstante, en otoño pueden producirse lluvias torrenci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lor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ncinas, Alcornoques y el Pin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También abundan los matorr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aun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iervo, lince  y conej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440" y="727200"/>
            <a:ext cx="6649920" cy="75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66"/>
                </a:solidFill>
                <a:latin typeface="Arial"/>
              </a:rPr>
              <a:t>Clima  Continental con influencia Mediterránea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s propio del sur de la Meseta y de buena parte del río Guadalquivi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Temperatur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os inviernos son menos fríos que el clima continental, pero los veranos son más caluros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s lluvias son escasas pero algo más abundante que en el clima continental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lor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ncinas y Alcornoques en dehesas, y plantaciones de oliv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aun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ince, perdiz y conej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2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18900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66"/>
                </a:solidFill>
                <a:latin typeface="Arial"/>
              </a:rPr>
              <a:t>Clima  Subtropica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9640" y="1827360"/>
            <a:ext cx="7775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slas Canari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Temperatur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on cálidas y suaves  durante todo el año. Por eso, casi no hay difererencia entre el invierno y el veran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s lluvias son muy escasas y predominan mas  en la zona norte de las islas que en la zona su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Flo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urisilva, dragos, pino canario tabailas y laurel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au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garto gigante, el canario y la hubar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66720" y="763560"/>
            <a:ext cx="6892920" cy="72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lima de  Montañ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e encuentra en las zonas más altas de las montañas. Aparece a menor altitud cuanto más al norte estén las montañ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Temperatur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viernos muy fríos y veranos frescos. En verano pueden ser cálidos en las horas diurn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recipitacione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bundantes durante casi todo el año y a menudo en forma de nie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Flo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s muy escasa por la altitud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astaños, robles y abet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Fau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Quebrantahuesos y cabra mont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755640"/>
            <a:ext cx="7417080" cy="728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actores que influyen en el clim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titud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sta actúa sobre la temperatura. Mientras más próximo al Ecuador se esté, más cálida será la temperatura; pero si uno se va acercando a los polos, la temperatura descenderá considerablem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titud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s la distancia (altura) de un lugar de la superficie terrestre con relación al nivel del mar. Los elementos afectados son la lluvia y la temperatura. En las zonas de mayor altitud el aire no puede retener el calor, por lo que las temperaturas son bajas. En cambio, en las de menor altitud sucede lo contrari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rrientes Marinas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fecta a la temperatura, humedad y pluviosidad o lluvia. Los lugares más cercanos al mar poseen temperaturas más moderadas y con menor oscilación térmica (la diferencia entre la temperatura máxima y mínima del día) que el interior de los contine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lieve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or forma y posición actúa sobre las temperaturas y las precipitaciones. Para los vientos es como un biombo climático. También produce diferencias de insolación según la ladera expuesta y modifica el régimen de precipitaciones, de acuerdo a la falda de barlovento (abierta al viento) y a la de sotavento (protegidas del vient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pe Portillo</cp:lastModifiedBy>
  <dcterms:modified xsi:type="dcterms:W3CDTF">2010-03-06T16:25:37Z</dcterms:modified>
  <cp:revision>65</cp:revision>
  <dc:subject/>
  <dc:title>PowerPoint Presentation</dc:title>
</cp:coreProperties>
</file>