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6.png" ContentType="image/png"/>
  <Override PartName="/ppt/media/image15.wmf" ContentType="image/x-wmf"/>
  <Override PartName="/ppt/media/image1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2.png" ContentType="image/png"/>
  <Override PartName="/ppt/media/image10.wmf" ContentType="image/x-wmf"/>
  <Override PartName="/ppt/media/image6.png" ContentType="image/png"/>
  <Override PartName="/ppt/media/image14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C38A-D386-4CF9-AFA2-3C464F720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31640" y="1371240"/>
            <a:ext cx="5326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C0EC-E71A-4626-A212-06EEF9AB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131640" y="1371240"/>
            <a:ext cx="5326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CEF6-1567-44F7-B167-74DDA82A7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31640" y="1371240"/>
            <a:ext cx="5326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02CA-9E8C-4A2F-AF7F-AB954D1F1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17822-CFD9-4E5F-A756-DEE3E5C0A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31640" y="1371240"/>
            <a:ext cx="5326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011F-7766-42C4-B409-7630807E7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31640" y="1371240"/>
            <a:ext cx="5326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35424-50E1-43D5-9702-629DE447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31640" y="1371240"/>
            <a:ext cx="5326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557D-E040-4541-9AF0-EF975CCF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31640" y="1371240"/>
            <a:ext cx="5326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B7D1-752F-43CA-BC7D-AE4E27BA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131640" y="1371240"/>
            <a:ext cx="5326200" cy="9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4AC2-B63D-47DF-BD19-F24CE6F1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31640" y="1371240"/>
            <a:ext cx="5326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0B7A-989D-4293-AF0A-D15391BC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31640" y="1371240"/>
            <a:ext cx="5326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732C-D085-460E-89FB-41A906CA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31640" y="1371240"/>
            <a:ext cx="5326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E8DB-6873-4787-B9CC-129256E2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31640" y="1371240"/>
            <a:ext cx="5326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8F69-AFA2-4FAF-9694-C3D5B2FA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31640" y="1371240"/>
            <a:ext cx="5326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7E68-D052-4588-BAC3-3806A5C0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131640" y="1371240"/>
            <a:ext cx="5326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B1D8-F86D-4F8F-92ED-D251B087E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31640" y="1371240"/>
            <a:ext cx="5326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6D9F4-3087-4BC7-BED1-D08F3753F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31640" y="1371240"/>
            <a:ext cx="5326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56EE-4F0D-456D-AF6C-3938FC2D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31640" y="1371240"/>
            <a:ext cx="5326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A698-A3BF-436A-A96F-9EA681AF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31640" y="1371240"/>
            <a:ext cx="5326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2E05-19E1-4AE1-B440-CFBF4A87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3131640" y="1371240"/>
            <a:ext cx="5326200" cy="95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8EBB-37B4-447F-88D0-4F63A632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31640" y="1371240"/>
            <a:ext cx="5326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C4A1-8442-4123-89E2-83BEA959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31640" y="1371240"/>
            <a:ext cx="5326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DF1D-8E7E-4FD3-B42C-86FB70C6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31640" y="1371240"/>
            <a:ext cx="5326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C7B3-5E29-4D7B-8D90-1D8F8212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A2839-673E-42E9-8746-ACB1DD567B68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476280"/>
            <a:ext cx="2751120" cy="6121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noAutofit/>
          </a:bodyPr>
          <a:p>
            <a:pPr>
              <a:lnSpc>
                <a:spcPct val="100000"/>
              </a:lnSpc>
              <a:buClr>
                <a:srgbClr val="66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663300"/>
                </a:solidFill>
                <a:uFillTx/>
                <a:latin typeface="Times New Roman"/>
                <a:hlinkClick r:id="rId2" action="ppaction://hlinksldjump"/>
              </a:rPr>
              <a:t>Área del círcu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663300"/>
                </a:solidFill>
                <a:uFillTx/>
                <a:latin typeface="Times New Roman"/>
                <a:hlinkClick r:id="rId3" action="ppaction://hlinksldjump"/>
              </a:rPr>
              <a:t>Área de la corona circ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663300"/>
                </a:solidFill>
                <a:uFillTx/>
                <a:latin typeface="Times New Roman"/>
                <a:hlinkClick r:id="rId4" action="ppaction://hlinksldjump"/>
              </a:rPr>
              <a:t>Área del sector circ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663300"/>
                </a:solidFill>
                <a:uFillTx/>
                <a:latin typeface="Times New Roman"/>
                <a:hlinkClick r:id="rId5" action="ppaction://hlinksldjump"/>
              </a:rPr>
              <a:t>Área del segmento circ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663300"/>
                </a:solidFill>
                <a:uFillTx/>
                <a:latin typeface="Times New Roman"/>
                <a:hlinkClick r:id="rId6" action="ppaction://hlinksldjump"/>
              </a:rPr>
              <a:t>Área del trapecio circu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663300"/>
                </a:solidFill>
                <a:uFillTx/>
                <a:latin typeface="Times New Roman"/>
                <a:hlinkClick r:id="rId7" action="ppaction://hlinksldjump"/>
              </a:rPr>
              <a:t>Área del triángu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Área del cuadr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Área del rectángu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Área del romb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Área del rombo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Área del trape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Área del trapezo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Área de un polígono regu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31640" y="1371240"/>
            <a:ext cx="53262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A986-3FA1-4FEC-BF1B-461A1F6EC5E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8326440" y="301320"/>
            <a:ext cx="457200" cy="457200"/>
          </a:xfrm>
          <a:prstGeom prst="rect">
            <a:avLst/>
          </a:prstGeom>
          <a:solidFill>
            <a:srgbClr val="66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95280" y="301320"/>
            <a:ext cx="7943760" cy="4572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MEN DE GEOMETRÍA (Figuras plan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95280" y="757800"/>
            <a:ext cx="7943760" cy="228600"/>
          </a:xfrm>
          <a:prstGeom prst="rect">
            <a:avLst/>
          </a:prstGeom>
          <a:solidFill>
            <a:srgbClr val="66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Colegio Cardenal Herrera Oria                                                               3º Ciclo de Ed. Prim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8335800" y="758160"/>
            <a:ext cx="447840" cy="2286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301680"/>
            <a:ext cx="8391600" cy="629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76720" y="1052640"/>
            <a:ext cx="5472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20000"/>
                </a:solidFill>
                <a:latin typeface="Times New Roman"/>
              </a:rPr>
              <a:t>RESUMEN</a:t>
            </a:r>
            <a:br>
              <a:rPr sz="5400"/>
            </a:br>
            <a:r>
              <a:rPr b="1" lang="en-US" sz="5400" spc="-1" strike="noStrike">
                <a:solidFill>
                  <a:srgbClr val="420000"/>
                </a:solidFill>
                <a:latin typeface="Times New Roman"/>
              </a:rPr>
              <a:t> DE</a:t>
            </a:r>
            <a:br>
              <a:rPr sz="5400"/>
            </a:br>
            <a:r>
              <a:rPr b="1" lang="en-US" sz="5400" spc="-1" strike="noStrike">
                <a:solidFill>
                  <a:srgbClr val="420000"/>
                </a:solidFill>
                <a:latin typeface="Times New Roman"/>
              </a:rPr>
              <a:t>GEOMETRÍA</a:t>
            </a:r>
            <a:br>
              <a:rPr sz="5400"/>
            </a:br>
            <a:r>
              <a:rPr b="1" lang="en-US" sz="5400" spc="-1" strike="noStrike">
                <a:solidFill>
                  <a:srgbClr val="420000"/>
                </a:solidFill>
                <a:latin typeface="Times New Roman"/>
              </a:rPr>
              <a:t>(Figuras planas)</a:t>
            </a:r>
            <a:br>
              <a:rPr sz="5400"/>
            </a:b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92360" y="1268280"/>
            <a:ext cx="122400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32000" y="1844640"/>
            <a:ext cx="792360" cy="3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700360" y="1052640"/>
            <a:ext cx="5904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14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067280" y="1125360"/>
            <a:ext cx="3954240" cy="50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700360" y="1052640"/>
            <a:ext cx="5904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753000" y="1149480"/>
            <a:ext cx="4419360" cy="53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700360" y="1052640"/>
            <a:ext cx="5904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772080" y="1201680"/>
            <a:ext cx="454500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700360" y="1052640"/>
            <a:ext cx="5904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1440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119480" y="1101600"/>
            <a:ext cx="412452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700360" y="1052640"/>
            <a:ext cx="5904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84760" y="969840"/>
            <a:ext cx="45036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700360" y="1052640"/>
            <a:ext cx="5904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114800" y="1341360"/>
            <a:ext cx="39132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700360" y="1052640"/>
            <a:ext cx="5904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14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079880" y="1163520"/>
            <a:ext cx="4092480" cy="528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700360" y="1052640"/>
            <a:ext cx="5904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14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EGIO CONCER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DENAL HERRERA 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460760" y="1700280"/>
            <a:ext cx="31356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700360" y="1052640"/>
            <a:ext cx="590400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564000" y="1052640"/>
            <a:ext cx="348624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700360" y="1052640"/>
            <a:ext cx="5904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430440" y="1468440"/>
            <a:ext cx="416592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700360" y="1052640"/>
            <a:ext cx="5904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611520" y="1409760"/>
            <a:ext cx="391320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700360" y="1052640"/>
            <a:ext cx="5904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144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613320" y="1413000"/>
            <a:ext cx="46306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700360" y="1052640"/>
            <a:ext cx="5904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006800" y="1279440"/>
            <a:ext cx="416556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492360" y="1052640"/>
            <a:ext cx="52563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es de triángu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780000" y="1052640"/>
            <a:ext cx="44719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700360" y="1052640"/>
            <a:ext cx="5904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33880" y="1125360"/>
            <a:ext cx="55735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771640" y="1052640"/>
            <a:ext cx="59040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1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adriláte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067280" y="1260360"/>
            <a:ext cx="4545000" cy="46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1T00:47:43Z</dcterms:created>
  <dc:creator>Pepe Portillo</dc:creator>
  <dc:description/>
  <dc:language>en-US</dc:language>
  <cp:lastModifiedBy>Pepe Portillo</cp:lastModifiedBy>
  <dcterms:modified xsi:type="dcterms:W3CDTF">2010-04-22T19:38:19Z</dcterms:modified>
  <cp:revision>176</cp:revision>
  <dc:subject/>
  <dc:title>Diapositiva 1</dc:title>
</cp:coreProperties>
</file>