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6.png" ContentType="image/png"/>
  <Override PartName="/ppt/media/image15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D46-383B-41CC-833A-33FC938A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3B86-78E3-4955-8499-1511FF86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D20-56A0-42FA-A33F-11F23F31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1839-BACF-43D5-B740-AC618216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FFC7-2EA7-4A19-8807-A4560F52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7177-5ADB-4FD9-AB0C-1983C511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F4A0-7AC5-4F35-B930-D6AF8AD1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E7A2-5D7D-4721-ACCB-D02038D2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23BB-BC64-4D7B-8CA3-3BAAC91B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131640" y="1371240"/>
            <a:ext cx="5326200" cy="9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6094-7E11-4FD4-9A17-AB86EDE6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1EC8-EBFA-49FF-B66D-38D585CE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D9CD-4608-49C8-B31F-F007D944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59C6-BFCB-4979-BFBF-61B5D973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8DD4-5889-4F0B-AB08-ABF23A2F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6FC2-34FA-4F41-A23C-4A154BD5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0486-7A94-447C-8F7A-FCC5A185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3CD3-9DAF-4660-9C6A-9DC9B093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9CCA-FD09-4A11-9342-E381C235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A10-B970-486A-8331-3FA51172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B8F-393D-4C6B-9564-B014DA5B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131640" y="1371240"/>
            <a:ext cx="5326200" cy="9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444F-36CB-4D15-91C2-B8D6CE39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1EC-32D9-4C62-BBDF-2E6D89FF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0FF-C0BC-4C1A-878C-F399BC46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B6F-92DF-4C01-B928-5BFE0187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0DF6-AC45-4B4B-8F53-8BE2088EB5A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476280"/>
            <a:ext cx="2751120" cy="6121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63300"/>
                </a:solidFill>
                <a:uFillTx/>
                <a:latin typeface="Times New Roman"/>
                <a:hlinkClick r:id="rId2" action="ppaction://hlinksldjump"/>
              </a:rPr>
              <a:t>Área del cír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63300"/>
                </a:solidFill>
                <a:uFillTx/>
                <a:latin typeface="Times New Roman"/>
                <a:hlinkClick r:id="rId3" action="ppaction://hlinksldjump"/>
              </a:rPr>
              <a:t>Área de la corona cir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63300"/>
                </a:solidFill>
                <a:uFillTx/>
                <a:latin typeface="Times New Roman"/>
                <a:hlinkClick r:id="rId4" action="ppaction://hlinksldjump"/>
              </a:rPr>
              <a:t>Área del sector cir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63300"/>
                </a:solidFill>
                <a:uFillTx/>
                <a:latin typeface="Times New Roman"/>
                <a:hlinkClick r:id="rId5" action="ppaction://hlinksldjump"/>
              </a:rPr>
              <a:t>Área del segmento cir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663300"/>
                </a:solidFill>
                <a:uFillTx/>
                <a:latin typeface="Times New Roman"/>
                <a:hlinkClick r:id="rId6" action="ppaction://hlinksldjump"/>
              </a:rPr>
              <a:t>Área del trapecio circ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663300"/>
                </a:solidFill>
                <a:uFillTx/>
                <a:latin typeface="Times New Roman"/>
                <a:hlinkClick r:id="rId7" action="ppaction://hlinksldjump"/>
              </a:rPr>
              <a:t>Área del triáng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Área del cuad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Área del rectáng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Área del rom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Área del rombo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Área del trap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Área del trapezo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Área de un polígono 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1D82-B9E3-44C4-9597-3B0000118A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8326440" y="301320"/>
            <a:ext cx="457200" cy="45720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95280" y="301320"/>
            <a:ext cx="7943760" cy="4572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MEN DE GEOMETRÍA (Figuras pla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95280" y="757800"/>
            <a:ext cx="7943760" cy="22860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legio Cardenal Herrera Oria                                                               3º Ciclo de Ed. Prim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8335800" y="758160"/>
            <a:ext cx="447840" cy="2286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301680"/>
            <a:ext cx="8391600" cy="629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720" y="1052640"/>
            <a:ext cx="5472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20000"/>
                </a:solidFill>
                <a:latin typeface="Times New Roman"/>
              </a:rPr>
              <a:t>RESUMEN</a:t>
            </a:r>
            <a:br>
              <a:rPr sz="5400"/>
            </a:br>
            <a:r>
              <a:rPr b="1" lang="en-US" sz="5400" spc="-1" strike="noStrike">
                <a:solidFill>
                  <a:srgbClr val="420000"/>
                </a:solidFill>
                <a:latin typeface="Times New Roman"/>
              </a:rPr>
              <a:t> DE</a:t>
            </a:r>
            <a:br>
              <a:rPr sz="5400"/>
            </a:br>
            <a:r>
              <a:rPr b="1" lang="en-US" sz="5400" spc="-1" strike="noStrike">
                <a:solidFill>
                  <a:srgbClr val="420000"/>
                </a:solidFill>
                <a:latin typeface="Times New Roman"/>
              </a:rPr>
              <a:t>GEOMETRÍA</a:t>
            </a:r>
            <a:br>
              <a:rPr sz="5400"/>
            </a:br>
            <a:r>
              <a:rPr b="1" lang="en-US" sz="5400" spc="-1" strike="noStrike">
                <a:solidFill>
                  <a:srgbClr val="420000"/>
                </a:solidFill>
                <a:latin typeface="Times New Roman"/>
              </a:rPr>
              <a:t>(Figuras planas)</a:t>
            </a:r>
            <a:br>
              <a:rPr sz="5400"/>
            </a:b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1268280"/>
            <a:ext cx="122400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1844640"/>
            <a:ext cx="79236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067280" y="1125360"/>
            <a:ext cx="3954240" cy="50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753000" y="1149480"/>
            <a:ext cx="44193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772080" y="1201680"/>
            <a:ext cx="4545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119480" y="1101600"/>
            <a:ext cx="412452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84760" y="969840"/>
            <a:ext cx="45036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114800" y="1341360"/>
            <a:ext cx="39132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079880" y="1163520"/>
            <a:ext cx="409248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EGIO CONCER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ENAL HERRERA 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60760" y="1700280"/>
            <a:ext cx="3135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700360" y="1052640"/>
            <a:ext cx="5904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564000" y="1052640"/>
            <a:ext cx="34862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30440" y="1468440"/>
            <a:ext cx="416592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11520" y="1409760"/>
            <a:ext cx="39132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613320" y="1413000"/>
            <a:ext cx="46306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006800" y="1279440"/>
            <a:ext cx="416556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492360" y="1052640"/>
            <a:ext cx="5256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es de triáng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780000" y="1052640"/>
            <a:ext cx="44719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33880" y="1125360"/>
            <a:ext cx="55735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77164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adrilát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067280" y="1260360"/>
            <a:ext cx="4545000" cy="46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00:47:43Z</dcterms:created>
  <dc:creator>Pepe Portillo</dc:creator>
  <dc:description/>
  <dc:language>en-US</dc:language>
  <cp:lastModifiedBy>Pepe Portillo</cp:lastModifiedBy>
  <dcterms:modified xsi:type="dcterms:W3CDTF">2010-04-22T19:38:19Z</dcterms:modified>
  <cp:revision>176</cp:revision>
  <dc:subject/>
  <dc:title>Diapositiva 1</dc:title>
</cp:coreProperties>
</file>