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9E4-E8BD-4167-9EDC-01E30745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0874-BEF2-499E-A5E1-201AB97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4018-F6AF-4C7C-9F0B-27C083F56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FD7-EF82-4841-B5FE-FDE44CB8A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0A62-ADB3-4922-8A66-32CE7989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D2DA-DCCD-4E38-BF78-4C73E2CA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43ED-7B1B-4511-BD8D-A9CCC6CE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C5E0-9936-4E4C-A138-8DB15702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50CB-675E-40B3-AFBE-9269F721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419640" y="1371240"/>
            <a:ext cx="50385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75D3-7E42-4F81-B8C9-4CA266BD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A68B-542B-4571-94B8-5FE8CF58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1FA-94A6-4054-B0DB-A6F66F254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6455-A8A6-44C6-AC6F-9AF1ECA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26D8-EADD-4416-A768-F5E6969A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11A0-1E2E-4A58-93EF-D5A606EC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DBD67-1264-447B-AA98-0C54A3D2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34D8-45B9-4800-96C1-0899DC95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45D-ECAE-4976-8FFC-D67A55B2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E86-82F8-44C4-AC11-2FB24C26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464-D31D-47C5-B89F-83D33C57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419640" y="1371240"/>
            <a:ext cx="503856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2503-091C-486A-A2A5-8975E5E0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AD7-527E-4427-A859-70E29A1D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DB27-500D-424B-8729-ADC65C00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E6D-5F8A-4767-812D-4642DEF4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69800" indent="-46980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469800" indent="-46980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469800" indent="-46980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469800" indent="-46980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469800" indent="-469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469800" indent="-4698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3859-B275-4E9F-9BBC-87A8432E86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476280"/>
            <a:ext cx="2664000" cy="612144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2" action="ppaction://hlinksldjump"/>
              </a:rPr>
              <a:t>La oración simp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3" action="ppaction://hlinksldjump"/>
              </a:rPr>
              <a:t>Partes de la or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4" action="ppaction://hlinksldjump"/>
              </a:rPr>
              <a:t>Grupo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5" action="ppaction://hlinksldjump"/>
              </a:rPr>
              <a:t>El suje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99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00"/>
                </a:solidFill>
                <a:uFillTx/>
                <a:latin typeface="Times New Roman"/>
                <a:hlinkClick r:id="rId6" action="ppaction://hlinksldjump"/>
              </a:rPr>
              <a:t>Formas del su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99cc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00"/>
                </a:solidFill>
                <a:uFillTx/>
                <a:latin typeface="Times New Roman"/>
                <a:hlinkClick r:id="rId7" action="ppaction://hlinksldjump"/>
              </a:rPr>
              <a:t>Complement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cc00"/>
                </a:solidFill>
                <a:uFillTx/>
                <a:latin typeface="Times New Roman"/>
                <a:hlinkClick r:id="rId8" action="ppaction://hlinksldjump"/>
              </a:rPr>
              <a:t>dentro del su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9" action="ppaction://hlinksldjump"/>
              </a:rPr>
              <a:t>El predic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99"/>
              </a:spcBef>
              <a:spcAft>
                <a:spcPts val="99"/>
              </a:spcAft>
              <a:buClr>
                <a:srgbClr val="99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cc00"/>
                </a:solidFill>
                <a:uFillTx/>
                <a:latin typeface="Times New Roman"/>
                <a:hlinkClick r:id="rId10" action="ppaction://hlinksldjump"/>
              </a:rPr>
              <a:t>El predicado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o copul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rib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88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 predicado 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di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indir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lemento circunstancial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mplemento circunstancial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eposi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 Suple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Predic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25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mento Ag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19640" y="1371240"/>
            <a:ext cx="5038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1507-1BEB-4791-B001-8A992A77FDD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326440" y="301320"/>
            <a:ext cx="457200" cy="45720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301320"/>
            <a:ext cx="7943760" cy="457200"/>
          </a:xfrm>
          <a:prstGeom prst="rect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N DE SINTÁXIS ORACION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5280" y="757800"/>
            <a:ext cx="7943760" cy="228600"/>
          </a:xfrm>
          <a:prstGeom prst="rect">
            <a:avLst/>
          </a:prstGeom>
          <a:solidFill>
            <a:srgbClr val="66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legio Cardenal Herrera Oria                                                               3º Ciclo de Ed. 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35800" y="758160"/>
            <a:ext cx="447840" cy="228600"/>
          </a:xfrm>
          <a:prstGeom prst="rect">
            <a:avLst/>
          </a:prstGeom>
          <a:solidFill>
            <a:srgbClr val="d6009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01680"/>
            <a:ext cx="8391600" cy="62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56000" y="1052640"/>
            <a:ext cx="619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RESUMEN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 DE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SINTÁXIS</a:t>
            </a:r>
            <a:br>
              <a:rPr sz="5400"/>
            </a:b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1268280"/>
            <a:ext cx="12240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1844640"/>
            <a:ext cx="792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3640" y="1052640"/>
            <a:ext cx="5400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VERBOS COPULA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Los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verbos copulativo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son, propiamente: ser, estar o parecer (aunque en ocasiones no funcionan como tales). Cuando no hay atributo la oración no es copula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En algunos casos “ser” y “estar” no son copulativos sino predicativos y, por lo tanto, no van acompañados de atributo. Son el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núcleo </a:t>
            </a:r>
            <a:r>
              <a:rPr b="0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del </a:t>
            </a:r>
            <a:r>
              <a:rPr b="1" lang="es-ES" sz="1400" spc="-1" strike="noStrike">
                <a:solidFill>
                  <a:srgbClr val="000000"/>
                </a:solidFill>
                <a:latin typeface="Arial Unicode MS"/>
                <a:ea typeface="宋体"/>
              </a:rPr>
              <a:t>predicado verbal</a:t>
            </a:r>
            <a:r>
              <a:rPr b="1" lang="es-ES" sz="1200" spc="-1" strike="noStrike">
                <a:solidFill>
                  <a:srgbClr val="000000"/>
                </a:solidFill>
                <a:latin typeface="Arial Unicode MS"/>
                <a:ea typeface="宋体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Esto ocurre cuan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El verbo ser significa “ocurrir” o “suceder”. </a:t>
            </a: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El concierto será esta tarde 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(esta tarde = CC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  <a:ea typeface="宋体"/>
              </a:rPr>
              <a:t>El verbo estar significa “encontrarse en algún lugar”.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Alfredo está en Móstoles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(en Móstoles = CC)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MX" sz="1000" spc="-1" strike="noStrike">
                <a:solidFill>
                  <a:srgbClr val="000000"/>
                </a:solidFill>
                <a:latin typeface="Arial Unicode MS"/>
              </a:rPr>
              <a:t>Felipe se parece a su abuelo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(a su abuelo = CI). En ese caso el verbo es predicativo (es el núcleo del predicado) y el predicado es verbal (PV). En estos casos no hay identidad entre el sujeto y otro complemento del predic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Se llaman </a:t>
            </a:r>
            <a:r>
              <a:rPr b="1" lang="es-MX" sz="1000" spc="-1" strike="noStrike">
                <a:solidFill>
                  <a:srgbClr val="000000"/>
                </a:solidFill>
                <a:latin typeface="Arial Unicode MS"/>
              </a:rPr>
              <a:t>verbos semicopulativos</a:t>
            </a: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 a aquellos que ocasionalmente funcionan como copulativos 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O funcionan en ciertos contextos como si lo fuesen, es decir, son verbos predicativos que pierden su significado. Pongamos el ejemplo del verbo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venir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: si decimos que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 volvió de Madrid 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se trata de un predicado verbal formado por verbo predicativo (= “regresar”) + un CCL; sin embargo si digo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 volvió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loco</a:t>
            </a:r>
            <a:r>
              <a:rPr b="0" lang="es-ES" sz="1000" spc="-1" strike="noStrike">
                <a:solidFill>
                  <a:srgbClr val="000000"/>
                </a:solidFill>
                <a:latin typeface="Arial Unicode MS"/>
              </a:rPr>
              <a:t> hablamos de verbo semicopulativo con atributo. Observa otros pares de oracion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ha hecho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un chalet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(v. pred. C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María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se ha hecho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monja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 (v. ½ cop. Atri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Juan se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encontró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el reloj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(v. pred. C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Se encuentra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1" lang="es-ES" sz="1000" spc="-1" strike="noStrike" u="sng">
                <a:solidFill>
                  <a:srgbClr val="000000"/>
                </a:solidFill>
                <a:uFillTx/>
                <a:latin typeface="Arial Unicode MS"/>
              </a:rPr>
              <a:t>triste </a:t>
            </a:r>
            <a:r>
              <a:rPr b="1" lang="es-ES" sz="1000" spc="-1" strike="noStrike">
                <a:solidFill>
                  <a:srgbClr val="000000"/>
                </a:solidFill>
                <a:latin typeface="Arial Unicode MS"/>
              </a:rPr>
              <a:t>   (v. ½ cop. Atrib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ATRIB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atributo es aquello que se dice del sujeto: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es simpátic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Ana es mi amiga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Luis es de Pamplona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;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La respuesta fue sí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... Hay una identificación entre sujeto y atributo: Juan = simpático; Ana = mi amiga; Luis = pamplonés (de Pamplona); La respuesta =  s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hemos dicho, el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tributo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s el núcleo de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predicado nominal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, y expresa una cualidad del sujeto de la frase. Dentro del predicado nominal puede aparecer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N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un embuster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P.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de la Indi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jetivo o sintagma adjetival.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muy buen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pronombre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e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é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atributo puede sustituirse por el pronombre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L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arlo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lo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s.</a:t>
            </a:r>
            <a:r>
              <a:rPr b="0" lang="es-ES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¿Cómo se reconoce el atributo en una oración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l verbo del predicado es copulativo o semicopulativo. Hay una identificación entre el sujeto y el atribu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  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Se puede pronominalizar por "lo".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Carmen es mi hermana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 (Carmen lo es);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Jaime parece aburrido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(Jaime lo parece);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Tus manos están congeladas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 (Tus manos lo están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 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En el predicado nominal (PN) no pueden aparecer nunca los siguientes complementos del verbo: complemento directo (CD), complemento predicativo (C.Pvo.), complemento preposicional regido o suplemento (Supl), complemento agente (C.Ag.). Sí puede llevar complementos circunstanciales (CC) y, en ocasiones, complemento indirecto (CI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59280" y="1052640"/>
            <a:ext cx="554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PREDICADO VER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verbo del predicado es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verbo predicativo 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odemos decir que un verbo predicativo es todo aquel que no es copulativ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(ser, estar o parecer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n este caso,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el núcleo del predicado verbal es siempre el verb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s del predicado verb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predicado se compone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verb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más los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s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éste que completan la información de la oración. Vamos a estudiar los complementos que pueden aparecer en un predicado según la naturaleza del verb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 Unicode MS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directo (C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indirecto (C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circunstancial (C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Predicativo (C.Pvo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Suplemento o Complemento Preposicional Regido (Supl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    </a:t>
            </a:r>
            <a:r>
              <a:rPr b="0" lang="es-MX" sz="1600" spc="-1" strike="noStrike">
                <a:solidFill>
                  <a:srgbClr val="0000cc"/>
                </a:solidFill>
                <a:latin typeface="Arial Unicode MS"/>
              </a:rPr>
              <a:t>- Complemento Agente (C.Ag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COMPLEMENTO DI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Complementa la significación de un verbo transitivo. El complemento directo (C.D.) es la persona, animal u objeto sobre quien recae la acción del verbo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ina compra </a:t>
            </a:r>
            <a:r>
              <a:rPr b="0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regalos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DENTIFICACIÓN DEL COMPLEMENTO DIR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ara indentificarlo en la oración, podemos aplicar estos recursos: 1- Se puede sustituir por los pronombres átonos LO, LA, LOS, LAS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ina los compr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2.- Se pregunta al verbo ¿qué? o ¿qué cosa? es el objeto de la acción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¿Qué compra Marina?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Respuesta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REGAL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3.- Se transforma la oración a voz pasiva. El sujeto de la oración pasiva, es el C.D. de la oración activa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ina compra regalos &lt;&lt; Los regalos son comprados por mar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FORMAS DEL C.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1.- Como un S.N.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Juanjo estudia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la lec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2.- Como un S.P.: (Cuando es un C.D. de persona. Siempre introducido por la prep. a.).                                                           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Remedios ama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 a Javier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3.- Como un pronombre reflexivo o recíproco (me, te, se, nos, os, se)  siempre que no aparezca otro C.D: </a:t>
            </a: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Fernando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se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ducha.  Carmen y yo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no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miráb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4..- Como pronombre personal átono (lo, la, los, las).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Yo lo qui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59280" y="1052640"/>
            <a:ext cx="554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INDIR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indirecto (C.I.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la persona, animal u objeto que recibe el daño o beneficio de la acción. Normalmente se sitúa detrás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.D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arlos regala flore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Isabel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sabel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la persona que, en este caso, recibe el beneficio de la acción, es decir,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flores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Isabel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Indirecto.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DENTIFICACIÓN DEL COMPLEMENTO INDIR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.I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uede sustituirse por los pronombres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le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les,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me, te, se, nos, os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(cuando el C.D. también aparezca pronominalizado).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arlos regala flore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Isabel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. &lt;&lt;&lt;&lt; Carlo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l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regala flores &lt;&lt;&lt;&lt; Carlo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s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rega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FORMAS DEL COMPLEMENTO INDIREC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ntro del predicado verbal, el C.I. puede aparecer com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1.- S.P.:-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co canta una canción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 Car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2.- Pronombre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(le, les)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c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l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pega un puñetaz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3.- Pronombre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(me, te,se, nos, os)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arc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s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o peg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59280" y="1052640"/>
            <a:ext cx="554508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CIRCUNSTA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circunstancial (C.C.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xpresa las diferentes circunstancias en que se realiza la acción del verbo. Estas circunstancias pueden ser de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tiempo, modo, lugar, cantidad, finalidad, compañía e  instrumen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, entre las más usuales. El Complemento circunstancia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uede aparecer tanto dentro de un predicado nominal como de un predicado verb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tiempo (C.C.T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una circunstancia de tiempo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ándo?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yer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 vinieron los señores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and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vinieron los señores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?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Respuesta, y por lo tanto CCT: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y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T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T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N: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l año pasado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me divertí much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Prep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Las pruebas se realizaron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durante el mes de marz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3.-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tiempo.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nteayer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comenzaron las rebajas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lugar (C.C.L)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el lugar donde se realiza la acción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dónde? ¿en dónde? ¿por dónde?, etc.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Mis primos viven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astellón.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¿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ónde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viven mis primos? Respuesta, y por lo tant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C.C.L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astell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L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L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Prep.: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Mis primos viven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astell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lugar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stuvimos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allí.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modo o manera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M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M expresa un modo o manera de ralizar la acción verbal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ómo? ¿de qué manera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stoy trabajando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ucha comodidad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ómo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stoy trabajando? Respuesta, y por lo tant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C.C.M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ucha comodid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M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M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 prep.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Lloví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ucha fuerz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modo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Lloví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fuertemente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cantidad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C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una cantidad dentro del predicado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ánto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profesor sabía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 muchísim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uánto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sabía el profesor? La respuesta,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muchísimo,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 será el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CC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C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l CCC puede aparecer dentro del predicado de las siguientes forma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N: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profesor sabí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un montó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2.- Como un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adverbio de cantidad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profesor sabía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 muchísimo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compañía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COMP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que la acción se realiza en compañía de alguien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ién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Fui a la play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is amigos.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ién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fui a la playa? La respuesta es el C.C. de Comp.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is amigo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DE COMP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Sólo puede aparecer en forma de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P.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Fuimos al circo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mis padres.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Fuimos al circo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en compañia de mis padr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cc"/>
                </a:solidFill>
                <a:latin typeface="Arial Unicode MS"/>
              </a:rPr>
              <a:t>El complemento circunstancial de instrumento</a:t>
            </a:r>
            <a:r>
              <a:rPr b="1" lang="en-GB" sz="1100" spc="-1" strike="noStrike">
                <a:solidFill>
                  <a:srgbClr val="0000cc"/>
                </a:solidFill>
                <a:latin typeface="Arial Unicode MS"/>
              </a:rPr>
              <a:t>(C.C.INST.)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xpresa el instrumento con que se realiza la acción. Responde a la pregunta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é?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El cerrajero abrió la puerta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 con las llaves.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¿Con qué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abrió la puerta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?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La respuesta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las llaves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es el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C.C.IN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FORMA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DEL C.C. INST.</a:t>
            </a:r>
            <a:r>
              <a:rPr b="0" lang="es-ES_tradnl" sz="1100" spc="-1" strike="noStrike">
                <a:solidFill>
                  <a:srgbClr val="000000"/>
                </a:solidFill>
                <a:latin typeface="Arial Unicode MS"/>
              </a:rPr>
              <a:t>Sólo puede aparecer en forma de 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S.P. </a:t>
            </a:r>
            <a:r>
              <a:rPr b="0" i="1" lang="es-ES_tradnl" sz="1100" spc="-1" strike="noStrike">
                <a:solidFill>
                  <a:srgbClr val="000000"/>
                </a:solidFill>
                <a:latin typeface="Arial Unicode MS"/>
              </a:rPr>
              <a:t>Abrió la lata </a:t>
            </a:r>
            <a:r>
              <a:rPr b="1" i="1" lang="es-ES_tradnl" sz="1100" spc="-1" strike="noStrike">
                <a:solidFill>
                  <a:srgbClr val="000000"/>
                </a:solidFill>
                <a:latin typeface="Arial Unicode MS"/>
              </a:rPr>
              <a:t>con el abrelatas</a:t>
            </a:r>
            <a:r>
              <a:rPr b="1" lang="es-ES_tradnl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PREPOSICIONAL (C.PREP.) O DE RÉGIMEN VERBAL O SUPLE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Algunos verbos, para especificar o concretar su signficado, necesitan un complemento introducido por las preposiciones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de, a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o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e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Por lo tanto, será siempre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.PREP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El complemento suplemento (Supl) es un sintagma nominal introducido por una preposición que necesitan algunos verbos para poder formar el predica­do. Observemos estas oracione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inglés.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de noche.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de ci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n la primera oración, tenemos un CD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inglés - Lo hablamos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n la segunda, hay un CC de tiempo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noch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; este puede sustituirse por un adverbio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Hablamos entonces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- En la tercera, el sintagma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cine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no puede sustituirse ni por el pronombre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l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 (CD), ni por un adverbio: podría sustituirse por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ell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 eso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(es decir, un sintagma preposicional formado por la preposición utilizada, aquí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, más un pronombre). Este tipo de complemento verbal, construido con preposición y absolutamente necesario para que el verbo al que com­plementa pueda funcionar en la oración es el suplemen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Comparemos estas dos oraciones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Recuerdo aquel pueblo 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y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Me acuerdo de aquel puebl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 Notemos que, en el primer caso, podremos decir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Lorecuerdo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 En cambio, en el se­gundo caso, habríamos de decir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Me acuerdo de él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Son muchos los verbos que pueden llevar suplemento, pero destacan los verbos pronominales (es decir, los que van siempre acompañados por un pronombre: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acordarse, quejarse, burlars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, etc.). Por lo demás, el suplemento puede ir con diversas preposiciones (no sólo </a:t>
            </a:r>
            <a:r>
              <a:rPr b="0" i="1" lang="es-MX" sz="1100" spc="-1" strike="noStrike">
                <a:solidFill>
                  <a:srgbClr val="000000"/>
                </a:solidFill>
                <a:latin typeface="Arial Unicode MS"/>
              </a:rPr>
              <a:t>de</a:t>
            </a:r>
            <a:r>
              <a:rPr b="0" lang="es-MX" sz="1100" spc="-1" strike="noStrike">
                <a:solidFill>
                  <a:srgbClr val="000000"/>
                </a:solidFill>
                <a:latin typeface="Arial Unicode MS"/>
              </a:rPr>
              <a:t>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PREDICATIVO (C. PRE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C. Pred.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es un complemento del Pred. Verbal que tiene como núcleo un adjetivo que concuerda con el suj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s igual como el  atribut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las oraciones copulativas, con la diferencia de que en este caso el verbo es predicativo. La forma del C. Pred. será siempre un S. Adjetival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is amigos viven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felices.      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i hermana esperab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muy desanimada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una solució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jemplo: Las atletas llegaro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exhausta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adjetivo exhaustas, por una parte, complementa al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verb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parece un complemento de modo: nos dice cómo llegaron las atletas: exhaustas). Pero, por otra parte, se relaciona con el sujeto (Las atletas) y concuerda con él en género y número, como el adjetivo atributo en una oración como Las atletas están exhaust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stamos, pues, ante un "híbrido" de complemento del verbo y de atributo. Recibe el nombre de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complemento predicativ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C.PRED.). He aquí otros 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Él iba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tranquil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la iba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tranquila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los iba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tranquil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32000" y="1052640"/>
            <a:ext cx="5472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COMPLEMENTO AGENTE (C.A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el complemento de una oración en voz pasiva. El verbo estará siempre en voz pasiva. Está siempre introducido por la preposición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por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l complemento agente es el sujeto en las oraciones activa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instalaciones fueron inauguradas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por los concejales = C.A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276720" y="1052640"/>
            <a:ext cx="532764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LA ORACIÓN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La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oració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la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unidad menor de significación que tiene un sentido compl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El  elemento principal de la oración es el verbo. Sin el verbo, no puede haber oración, y puede haber oración con sólo enunciar un verbo. La oración acaba en pausa o en punto, es decir, tiene una entonación cerra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jemplo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os alumnos estudian las lecciones de gramát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állate.</a:t>
            </a:r>
            <a:r>
              <a:rPr b="0" lang="es-E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132000" y="1052640"/>
            <a:ext cx="5616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TRANSFORMACIÓN DE UNA ORACIÓN ACTIVA A PAS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ara transformar una oración en voz activa a voz pasiva es imprescindible que el verbo principal de la oración activa sea un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verbo transitiv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Seguiremos los pasos siguientes a partir del ejemplo::</a:t>
            </a:r>
            <a:r>
              <a:rPr b="1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Los niños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volaban </a:t>
            </a:r>
            <a:r>
              <a:rPr b="1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las cometas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magistral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1.- Identificamos el sujeto de la oración activa</a:t>
            </a: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Los ni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2.- Identificamos el Complemento directo de la oración activa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las comet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3.- Transformamos el verbo en voz activa a voz pasiva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eran vol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4.- El complemento Directo de la oración activa, pasa a ser el sujeto de la pasiva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Las come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5.- Inmediatamente después, ponemos el verbo en voz pasiva, concertado en género y número con su sujeto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eran vol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6.- El sujeto de la oración activa pasa a ser el Complemento Agente de la pasiva, introducido siempre por la preposición propia POR: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por los niñ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 Unicode MS"/>
              </a:rPr>
              <a:t>7.- Es conveniente situar los otros complementos (indirectos, circunstanciales, etc.)  después del Complemento Agente: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magistralm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Unicode MS"/>
              </a:rPr>
              <a:t>La oración pasiva quedará de la siguiente forma: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Las cometas eran voladas por los niños magistral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EGIO CONCE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ENAL HERRERA 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460760" y="1700280"/>
            <a:ext cx="3135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76720" y="1052640"/>
            <a:ext cx="51829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PARTES DE LA 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La oración se compone de un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suj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y un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predicado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elemento principal del sujeto es el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nombre</a:t>
            </a:r>
            <a:r>
              <a:rPr b="0" lang="es-ES_tradnl" sz="1400" spc="-1" strike="noStrike">
                <a:solidFill>
                  <a:srgbClr val="0000cc"/>
                </a:solidFill>
                <a:latin typeface="Arial Unicode MS"/>
              </a:rPr>
              <a:t>,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y el elemento principal del predicado, es el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verb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Antes de abordar el estudio del sujeto y del predicado es necesario estudiar el </a:t>
            </a:r>
            <a:r>
              <a:rPr b="1" lang="es-ES_tradnl" sz="1400" spc="-1" strike="noStrike">
                <a:solidFill>
                  <a:srgbClr val="0000cc"/>
                </a:solidFill>
                <a:latin typeface="Arial Unicode MS"/>
              </a:rPr>
              <a:t>grupo nomi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porque  puede aparecer en ambas partes de la oración, realizando diferentes funciones sintáctic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1052640"/>
            <a:ext cx="547236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GRUPO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144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grupo nomi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un conjunto de palabras que se agrupan alrededor del nombre y realizan una misma función sintáctica. El grupo nominal puede ser de dos maner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- El sintagma nominal (S.N.)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u función sintáctica principal es la de ser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una oración, aunque puede realizar otras funciones de complemento, como veremos más adelante. La regla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nominal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: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N=(DET) + NOMBRE + (Complemento del nomb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Carlos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estudia. SN= N 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El perro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ladra; SN=DET + N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 Unicode MS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000000"/>
                </a:solidFill>
                <a:uFillTx/>
                <a:latin typeface="Arial Unicode MS"/>
              </a:rPr>
              <a:t>Los pantalones azules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 Unicode MS"/>
              </a:rPr>
              <a:t> están allí. SN= DET + N + C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- El sintagma preposicional (S.P)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un grupo nominal que queda subordinado a una palabra o grupo de palabras por medio de una preposición. Irá siempre, pues,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recedido por una preposició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Su función sintáctica será siempre la de complemento. La regla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preposicional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: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PREP= PREP + (DET) + NOMBRE + (Complemento del nombr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l lápiz </a:t>
            </a:r>
            <a:r>
              <a:rPr b="1" i="1" lang="es-ES_tradnl" sz="1400" spc="-1" strike="noStrike" u="sng">
                <a:solidFill>
                  <a:srgbClr val="000000"/>
                </a:solidFill>
                <a:uFillTx/>
                <a:latin typeface="Arial Unicode MS"/>
              </a:rPr>
              <a:t>de María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stá ro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76720" y="1052640"/>
            <a:ext cx="532764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SU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sujet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es aquel sintagma nominal que concuerda en número y persona con el verbo. El sujeto es "agente" si realiza la acción del verbo (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come manzana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) y es "sujeto paciente" si la recibe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(Las manzanas son comidas por Juan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)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.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Cuando analicemos una oración sintácticamente, el sujeto lo expresamos como SN-SUJ (si el sujeto es paciente, en las oraciones pasivas, lo expresamos SN-SUJ PAC). SN significa Sintagma Nomi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Identificación del sujeto de una o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ara identificar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de una oración preguntaremos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¿quién?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¿quiénes?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al verbo de la oración. La respuesta que obtengamos, será el sujeto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muchachas bailan muy bie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Para identificar el sujeto haré la siguiente pregunta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¿Quiénes bailan muy bien?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Respuesta, y por lo tant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: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las muchac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03640" y="1052640"/>
            <a:ext cx="547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FORMAS DEL SU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sujeto de una oración simple es siempre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nominal,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o un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 pronombre tónico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(personal, demostrativo, indefinido, posesivo, numeral, etc.)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Y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omo. Sujeto =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Pronombre pers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El niño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canta. Sujeto =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 S.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El sujeto omit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Muchas veces, al emitir un enunciado no expresamos el sujeto, bien porque lo sobreentendemos, o bien porque se trata de una oración con verbo impersonal y por lo tanto no tiene sujeto. Cuando esto ocurre, decimos que hay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omitido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Así pues,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omitid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es aquel que no aparece explícito o expreso en la oración. A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omitid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se le llama tambié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 gramatical.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Me llamaron por teléfono (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S.O.=ellos)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Resbaló en la entrada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(S.O.= é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1052640"/>
            <a:ext cx="54738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COMPLEMENTOS DENTRO DEL SU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Hemos dicho que el sujeto es siempre un S.N., y por lo tanto, su núcleo será siempre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nombre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Como sabemos, el nombre puede tener un complemento , que es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de Nombre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complemento de nombre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puede aparecer en el sujeto de dos forma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1.-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adjetiv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l coche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amarillo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es mí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2.- como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intagma preposicio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: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 cartera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 Unicode MS"/>
              </a:rPr>
              <a:t>de mi padre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 es de piel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76720" y="1052640"/>
            <a:ext cx="5472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 Unicode MS"/>
              </a:rPr>
              <a:t>EL PREDICADO DE UNA O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redicado de una oración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es todo lo que se dice d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sujet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. 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Señala una acción, proceso o estado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Podríamos decir que todo lo que no es sujeto, es el predicado. El verbo es el elemento principal del predicado, y  según 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el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verbo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parte principal del predicado) podemos clasificarlo e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Predicado Verbal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el verbo es el núcleo del predicado -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estudia inglés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-) y en </a:t>
            </a:r>
            <a:r>
              <a:rPr b="1" lang="es-MX" sz="1400" spc="-1" strike="noStrike">
                <a:solidFill>
                  <a:srgbClr val="000000"/>
                </a:solidFill>
                <a:latin typeface="Arial Unicode MS"/>
              </a:rPr>
              <a:t>Predicado Nominal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 (el verbo simplemente une el sujeto con el atributo -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Juan es inteligente</a:t>
            </a:r>
            <a:r>
              <a:rPr b="0" lang="es-MX" sz="1400" spc="-1" strike="noStrike">
                <a:solidFill>
                  <a:srgbClr val="000000"/>
                </a:solidFill>
                <a:latin typeface="Arial Unicode MS"/>
              </a:rPr>
              <a:t>-). </a:t>
            </a:r>
            <a:r>
              <a:rPr b="0" i="1" lang="es-MX" sz="1400" spc="-1" strike="noStrike">
                <a:solidFill>
                  <a:srgbClr val="000000"/>
                </a:solidFill>
                <a:latin typeface="Arial Unicode MS"/>
              </a:rPr>
              <a:t>Al analizar escribiremos SV-PV o SV-PN (Sintagma Verbal Predicado Verbal o Predicado Nominal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03640" y="1052640"/>
            <a:ext cx="540072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 Unicode MS"/>
              </a:rPr>
              <a:t>EL PREDICADO N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i el verbo del predicado es un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verbo copulativo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, entonces el predicado será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nominal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, y su núcleo, será el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atributo.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Se le llama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redicado nominal, 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porque en dicho predicado aparece un atributo o característica del sujeto. Aquí el verbo sirve únicamente como elemento de enlace entre el sujeto y el atributo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niñas parecen cansadas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 Unicode MS"/>
              </a:rPr>
              <a:t>Parecen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une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las niñas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con el atributo de éstas, 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 Unicode MS"/>
              </a:rPr>
              <a:t>cansadas.</a:t>
            </a: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43Z</dcterms:created>
  <dc:creator>Pepe Portillo</dc:creator>
  <dc:description/>
  <dc:language>en-US</dc:language>
  <cp:lastModifiedBy>Pepe Portillo</cp:lastModifiedBy>
  <dcterms:modified xsi:type="dcterms:W3CDTF">2011-07-07T17:43:20Z</dcterms:modified>
  <cp:revision>189</cp:revision>
  <dc:subject/>
  <dc:title>Diapositiva 1</dc:title>
</cp:coreProperties>
</file>