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0D88-BCEA-4D12-B6CC-439807AEB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19640" y="1371240"/>
            <a:ext cx="5038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DB1B-F765-4A79-AFA0-DB4DB6AE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19640" y="1371240"/>
            <a:ext cx="5038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F70D-CD45-4A50-AA40-6D6F1BE4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19640" y="1371240"/>
            <a:ext cx="5038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B924-0269-4AFF-8F08-4C1F8C138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8C8A-E542-4DE8-B362-0036BBD8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19640" y="1371240"/>
            <a:ext cx="5038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6FEC-F0B9-464B-845B-1C44CD13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19640" y="1371240"/>
            <a:ext cx="5038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440D-6CD3-498A-A785-57306CCC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19640" y="1371240"/>
            <a:ext cx="5038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219E-4C24-4431-8B5A-7CBD5571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19640" y="1371240"/>
            <a:ext cx="5038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AF69-4AE0-4376-9424-3B3A48F0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419640" y="1371240"/>
            <a:ext cx="5038560" cy="9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E835-CF75-4804-A6D6-B1D9B6D8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19640" y="1371240"/>
            <a:ext cx="5038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31DF-CF50-470C-9AB3-24EFBBFB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19640" y="1371240"/>
            <a:ext cx="5038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BFC6-FB6F-47FA-87D7-DA1251C9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19640" y="1371240"/>
            <a:ext cx="5038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584A-6FD3-408E-9337-0A796B7E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19640" y="1371240"/>
            <a:ext cx="5038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22C9-605B-4428-8790-3405E881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19640" y="1371240"/>
            <a:ext cx="5038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B183-4DAF-4AFD-AC7C-F56A18D4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19640" y="1371240"/>
            <a:ext cx="5038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6950-82FF-4288-8A12-4A9B204D6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19640" y="1371240"/>
            <a:ext cx="5038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6057-9ECD-468B-B855-6C8CA2CDC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19640" y="1371240"/>
            <a:ext cx="5038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5A5D-324A-49E4-B1F6-F3EAA34D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19640" y="1371240"/>
            <a:ext cx="5038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FF6B-3F3B-45A8-8EA8-8E819524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19640" y="1371240"/>
            <a:ext cx="5038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5AA2-7DF7-456C-961C-547080E9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419640" y="1371240"/>
            <a:ext cx="5038560" cy="9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442A-8DA4-477A-85D2-63A752D6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19640" y="1371240"/>
            <a:ext cx="5038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B2CE-06C8-49DC-A677-435AE912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19640" y="1371240"/>
            <a:ext cx="5038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0D36-E91C-4F3B-B794-CAC45A79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19640" y="1371240"/>
            <a:ext cx="5038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1DF8-9324-4325-8CCD-E53D1423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9800" indent="-46980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469800" indent="-46980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469800" indent="-46980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469800" indent="-46980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469800" indent="-4698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469800" indent="-4698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EEE4-A7CF-4D5E-B6EC-02C7718490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476280"/>
            <a:ext cx="2664000" cy="612144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lvl="1" marL="457200">
              <a:lnSpc>
                <a:spcPct val="125000"/>
              </a:lnSpc>
              <a:spcBef>
                <a:spcPts val="99"/>
              </a:spcBef>
              <a:spcAft>
                <a:spcPts val="99"/>
              </a:spcAft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cc00"/>
                </a:solidFill>
                <a:uFillTx/>
                <a:latin typeface="Times New Roman"/>
                <a:hlinkClick r:id="rId2" action="ppaction://hlinksldjump"/>
              </a:rPr>
              <a:t>La oración si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Bef>
                <a:spcPts val="99"/>
              </a:spcBef>
              <a:spcAft>
                <a:spcPts val="99"/>
              </a:spcAft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cc00"/>
                </a:solidFill>
                <a:uFillTx/>
                <a:latin typeface="Times New Roman"/>
                <a:hlinkClick r:id="rId3" action="ppaction://hlinksldjump"/>
              </a:rPr>
              <a:t>Partes de la o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Bef>
                <a:spcPts val="99"/>
              </a:spcBef>
              <a:spcAft>
                <a:spcPts val="99"/>
              </a:spcAft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cc00"/>
                </a:solidFill>
                <a:uFillTx/>
                <a:latin typeface="Times New Roman"/>
                <a:hlinkClick r:id="rId4" action="ppaction://hlinksldjump"/>
              </a:rPr>
              <a:t>Grupo nom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Bef>
                <a:spcPts val="99"/>
              </a:spcBef>
              <a:spcAft>
                <a:spcPts val="99"/>
              </a:spcAft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cc00"/>
                </a:solidFill>
                <a:uFillTx/>
                <a:latin typeface="Times New Roman"/>
                <a:hlinkClick r:id="rId5" action="ppaction://hlinksldjump"/>
              </a:rPr>
              <a:t>El suje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spcBef>
                <a:spcPts val="74"/>
              </a:spcBef>
              <a:spcAft>
                <a:spcPts val="74"/>
              </a:spcAft>
              <a:buClr>
                <a:srgbClr val="99cc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cc00"/>
                </a:solidFill>
                <a:uFillTx/>
                <a:latin typeface="Times New Roman"/>
                <a:hlinkClick r:id="rId6" action="ppaction://hlinksldjump"/>
              </a:rPr>
              <a:t>Formas del suje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spcBef>
                <a:spcPts val="74"/>
              </a:spcBef>
              <a:spcAft>
                <a:spcPts val="74"/>
              </a:spcAft>
              <a:buClr>
                <a:srgbClr val="99cc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cc00"/>
                </a:solidFill>
                <a:uFillTx/>
                <a:latin typeface="Times New Roman"/>
                <a:hlinkClick r:id="rId7" action="ppaction://hlinksldjump"/>
              </a:rPr>
              <a:t>Complemen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cc00"/>
                </a:solidFill>
                <a:uFillTx/>
                <a:latin typeface="Times New Roman"/>
                <a:hlinkClick r:id="rId8" action="ppaction://hlinksldjump"/>
              </a:rPr>
              <a:t>dentro del suje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Bef>
                <a:spcPts val="99"/>
              </a:spcBef>
              <a:spcAft>
                <a:spcPts val="99"/>
              </a:spcAft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cc00"/>
                </a:solidFill>
                <a:uFillTx/>
                <a:latin typeface="Times New Roman"/>
                <a:hlinkClick r:id="rId9" action="ppaction://hlinksldjump"/>
              </a:rPr>
              <a:t>El predic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Bef>
                <a:spcPts val="99"/>
              </a:spcBef>
              <a:spcAft>
                <a:spcPts val="99"/>
              </a:spcAft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cc00"/>
                </a:solidFill>
                <a:uFillTx/>
                <a:latin typeface="Times New Roman"/>
                <a:hlinkClick r:id="rId10" action="ppaction://hlinksldjump"/>
              </a:rPr>
              <a:t>El predicado nom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o copul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ribu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Bef>
                <a:spcPts val="88"/>
              </a:spcBef>
              <a:spcAft>
                <a:spcPts val="88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 predicado verb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mento dir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mento indir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mplemento circunstancial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mplemento circunstancial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mento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posic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 Suple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mento Predic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mento Ag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19640" y="1371240"/>
            <a:ext cx="5038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EC73-84A4-47BB-A7C7-718D294776C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8326440" y="301320"/>
            <a:ext cx="457200" cy="457200"/>
          </a:xfrm>
          <a:prstGeom prst="rect">
            <a:avLst/>
          </a:prstGeom>
          <a:solidFill>
            <a:srgbClr val="66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95280" y="301320"/>
            <a:ext cx="7943760" cy="457200"/>
          </a:xfrm>
          <a:prstGeom prst="rect">
            <a:avLst/>
          </a:prstGeom>
          <a:solidFill>
            <a:srgbClr val="d600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MEN DE SINTÁXIS ORACIONES 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95280" y="757800"/>
            <a:ext cx="7943760" cy="228600"/>
          </a:xfrm>
          <a:prstGeom prst="rect">
            <a:avLst/>
          </a:prstGeom>
          <a:solidFill>
            <a:srgbClr val="66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legio Cardenal Herrera Oria                                                               3º Ciclo de Ed. Prim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8335800" y="758160"/>
            <a:ext cx="447840" cy="228600"/>
          </a:xfrm>
          <a:prstGeom prst="rect">
            <a:avLst/>
          </a:prstGeom>
          <a:solidFill>
            <a:srgbClr val="d600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301680"/>
            <a:ext cx="8391600" cy="629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56000" y="1052640"/>
            <a:ext cx="6192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20000"/>
                </a:solidFill>
                <a:latin typeface="Times New Roman"/>
              </a:rPr>
              <a:t>RESUMEN</a:t>
            </a:r>
            <a:br>
              <a:rPr sz="5400"/>
            </a:br>
            <a:r>
              <a:rPr b="1" lang="en-US" sz="5400" spc="-1" strike="noStrike">
                <a:solidFill>
                  <a:srgbClr val="420000"/>
                </a:solidFill>
                <a:latin typeface="Times New Roman"/>
              </a:rPr>
              <a:t> DE</a:t>
            </a:r>
            <a:br>
              <a:rPr sz="5400"/>
            </a:br>
            <a:r>
              <a:rPr b="1" lang="en-US" sz="5400" spc="-1" strike="noStrike">
                <a:solidFill>
                  <a:srgbClr val="420000"/>
                </a:solidFill>
                <a:latin typeface="Times New Roman"/>
              </a:rPr>
              <a:t>SINTÁXIS</a:t>
            </a:r>
            <a:br>
              <a:rPr sz="5400"/>
            </a:b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92360" y="1268280"/>
            <a:ext cx="122400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32000" y="1844640"/>
            <a:ext cx="79236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203640" y="1052640"/>
            <a:ext cx="5400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 Unicode MS"/>
              </a:rPr>
              <a:t>VERBOS COPUL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Los </a:t>
            </a:r>
            <a:r>
              <a:rPr b="1" lang="es-MX" sz="1400" spc="-1" strike="noStrike">
                <a:solidFill>
                  <a:srgbClr val="000000"/>
                </a:solidFill>
                <a:latin typeface="Arial Unicode MS"/>
              </a:rPr>
              <a:t>verbos copulativos</a:t>
            </a: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 son, propiamente: ser, estar o parecer (aunque en ocasiones no funcionan como tales). Cuando no hay atributo la oración no es copula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Unicode MS"/>
                <a:ea typeface="宋体"/>
              </a:rPr>
              <a:t>En algunos casos “ser” y “estar” no son copulativos sino predicativos y, por lo tanto, no van acompañados de atributo. Son el </a:t>
            </a:r>
            <a:r>
              <a:rPr b="1" lang="es-ES" sz="1400" spc="-1" strike="noStrike">
                <a:solidFill>
                  <a:srgbClr val="000000"/>
                </a:solidFill>
                <a:latin typeface="Arial Unicode MS"/>
                <a:ea typeface="宋体"/>
              </a:rPr>
              <a:t>núcleo </a:t>
            </a:r>
            <a:r>
              <a:rPr b="0" lang="es-ES" sz="1400" spc="-1" strike="noStrike">
                <a:solidFill>
                  <a:srgbClr val="000000"/>
                </a:solidFill>
                <a:latin typeface="Arial Unicode MS"/>
                <a:ea typeface="宋体"/>
              </a:rPr>
              <a:t>del </a:t>
            </a:r>
            <a:r>
              <a:rPr b="1" lang="es-ES" sz="1400" spc="-1" strike="noStrike">
                <a:solidFill>
                  <a:srgbClr val="000000"/>
                </a:solidFill>
                <a:latin typeface="Arial Unicode MS"/>
                <a:ea typeface="宋体"/>
              </a:rPr>
              <a:t>predicado verbal</a:t>
            </a:r>
            <a:r>
              <a:rPr b="1" lang="es-ES" sz="1200" spc="-1" strike="noStrike">
                <a:solidFill>
                  <a:srgbClr val="000000"/>
                </a:solidFill>
                <a:latin typeface="Arial Unicode MS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 Unicode MS"/>
                <a:ea typeface="宋体"/>
              </a:rPr>
              <a:t>Esto ocurre cuando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 Unicode MS"/>
                <a:ea typeface="宋体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 Unicode MS"/>
                <a:ea typeface="宋体"/>
              </a:rPr>
              <a:t>El verbo ser significa “ocurrir” o “suceder”. </a:t>
            </a:r>
            <a:r>
              <a:rPr b="0" i="1" lang="es-MX" sz="1000" spc="-1" strike="noStrike">
                <a:solidFill>
                  <a:srgbClr val="000000"/>
                </a:solidFill>
                <a:latin typeface="Arial Unicode MS"/>
              </a:rPr>
              <a:t>El concierto será esta tarde </a:t>
            </a:r>
            <a:r>
              <a:rPr b="0" lang="es-MX" sz="1000" spc="-1" strike="noStrike">
                <a:solidFill>
                  <a:srgbClr val="000000"/>
                </a:solidFill>
                <a:latin typeface="Arial Unicode MS"/>
              </a:rPr>
              <a:t>(esta tarde = CC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 Unicode MS"/>
                <a:ea typeface="宋体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 Unicode MS"/>
                <a:ea typeface="宋体"/>
              </a:rPr>
              <a:t>El verbo estar significa “encontrarse en algún lugar”.</a:t>
            </a:r>
            <a:r>
              <a:rPr b="0" lang="es-MX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es-MX" sz="1000" spc="-1" strike="noStrike">
                <a:solidFill>
                  <a:srgbClr val="000000"/>
                </a:solidFill>
                <a:latin typeface="Arial Unicode MS"/>
              </a:rPr>
              <a:t>Alfredo está en Móstoles</a:t>
            </a:r>
            <a:r>
              <a:rPr b="0" lang="es-MX" sz="1000" spc="-1" strike="noStrike">
                <a:solidFill>
                  <a:srgbClr val="000000"/>
                </a:solidFill>
                <a:latin typeface="Arial Unicode MS"/>
              </a:rPr>
              <a:t> (en Móstoles = CC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es-MX" sz="1000" spc="-1" strike="noStrike">
                <a:solidFill>
                  <a:srgbClr val="000000"/>
                </a:solidFill>
                <a:latin typeface="Arial Unicode MS"/>
              </a:rPr>
              <a:t>Felipe se parece a su abuelo</a:t>
            </a:r>
            <a:r>
              <a:rPr b="0" lang="es-MX" sz="1000" spc="-1" strike="noStrike">
                <a:solidFill>
                  <a:srgbClr val="000000"/>
                </a:solidFill>
                <a:latin typeface="Arial Unicode MS"/>
              </a:rPr>
              <a:t> (a su abuelo = CI). En ese caso el verbo es predicativo (es el núcleo del predicado) y el predicado es verbal (PV). En estos casos no hay identidad entre el sujeto y otro complemento del predica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Unicode MS"/>
              </a:rPr>
              <a:t>Se llaman </a:t>
            </a:r>
            <a:r>
              <a:rPr b="1" lang="es-MX" sz="1000" spc="-1" strike="noStrike">
                <a:solidFill>
                  <a:srgbClr val="000000"/>
                </a:solidFill>
                <a:latin typeface="Arial Unicode MS"/>
              </a:rPr>
              <a:t>verbos semicopulativos</a:t>
            </a:r>
            <a:r>
              <a:rPr b="0" lang="es-MX" sz="1000" spc="-1" strike="noStrike">
                <a:solidFill>
                  <a:srgbClr val="000000"/>
                </a:solidFill>
                <a:latin typeface="Arial Unicode MS"/>
              </a:rPr>
              <a:t> a aquellos que ocasionalmente funcionan como copulativos </a:t>
            </a:r>
            <a:r>
              <a:rPr b="0" lang="es-ES" sz="1000" spc="-1" strike="noStrike">
                <a:solidFill>
                  <a:srgbClr val="000000"/>
                </a:solidFill>
                <a:latin typeface="Arial Unicode MS"/>
              </a:rPr>
              <a:t>O funcionan en ciertos contextos como si lo fuesen, es decir, son verbos predicativos que pierden su significado. Pongamos el ejemplo del verbo </a:t>
            </a:r>
            <a:r>
              <a:rPr b="1" lang="es-ES" sz="1000" spc="-1" strike="noStrike">
                <a:solidFill>
                  <a:srgbClr val="000000"/>
                </a:solidFill>
                <a:latin typeface="Arial Unicode MS"/>
              </a:rPr>
              <a:t>venir</a:t>
            </a:r>
            <a:r>
              <a:rPr b="0" lang="es-ES" sz="1000" spc="-1" strike="noStrike">
                <a:solidFill>
                  <a:srgbClr val="000000"/>
                </a:solidFill>
                <a:latin typeface="Arial Unicode MS"/>
              </a:rPr>
              <a:t>: si decimos que </a:t>
            </a:r>
            <a:r>
              <a:rPr b="1" lang="es-ES" sz="1000" spc="-1" strike="noStrike">
                <a:solidFill>
                  <a:srgbClr val="000000"/>
                </a:solidFill>
                <a:latin typeface="Arial Unicode MS"/>
              </a:rPr>
              <a:t>Juan se volvió de Madrid </a:t>
            </a:r>
            <a:r>
              <a:rPr b="0" lang="es-ES" sz="1000" spc="-1" strike="noStrike">
                <a:solidFill>
                  <a:srgbClr val="000000"/>
                </a:solidFill>
                <a:latin typeface="Arial Unicode MS"/>
              </a:rPr>
              <a:t>se trata de un predicado verbal formado por verbo predicativo (= “regresar”) + un CCL; sin embargo si digo </a:t>
            </a:r>
            <a:r>
              <a:rPr b="1" lang="es-ES" sz="1000" spc="-1" strike="noStrike">
                <a:solidFill>
                  <a:srgbClr val="000000"/>
                </a:solidFill>
                <a:latin typeface="Arial Unicode MS"/>
              </a:rPr>
              <a:t>Juan se volvió </a:t>
            </a:r>
            <a:r>
              <a:rPr b="1" lang="es-ES" sz="1000" spc="-1" strike="noStrike" u="sng">
                <a:solidFill>
                  <a:srgbClr val="000000"/>
                </a:solidFill>
                <a:uFillTx/>
                <a:latin typeface="Arial Unicode MS"/>
              </a:rPr>
              <a:t>loco</a:t>
            </a:r>
            <a:r>
              <a:rPr b="0" lang="es-ES" sz="1000" spc="-1" strike="noStrike">
                <a:solidFill>
                  <a:srgbClr val="000000"/>
                </a:solidFill>
                <a:latin typeface="Arial Unicode MS"/>
              </a:rPr>
              <a:t> hablamos de verbo semicopulativo con atributo. Observa otros pares de oracion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 Unicode MS"/>
              </a:rPr>
              <a:t>Juan se </a:t>
            </a:r>
            <a:r>
              <a:rPr b="1" lang="es-ES" sz="1000" spc="-1" strike="noStrike" u="sng">
                <a:solidFill>
                  <a:srgbClr val="000000"/>
                </a:solidFill>
                <a:uFillTx/>
                <a:latin typeface="Arial Unicode MS"/>
              </a:rPr>
              <a:t>ha hecho</a:t>
            </a:r>
            <a:r>
              <a:rPr b="1" lang="es-ES" sz="1000" spc="-1" strike="noStrike">
                <a:solidFill>
                  <a:srgbClr val="000000"/>
                </a:solidFill>
                <a:latin typeface="Arial Unicode MS"/>
              </a:rPr>
              <a:t> </a:t>
            </a:r>
            <a:r>
              <a:rPr b="1" lang="es-ES" sz="1000" spc="-1" strike="noStrike" u="sng">
                <a:solidFill>
                  <a:srgbClr val="000000"/>
                </a:solidFill>
                <a:uFillTx/>
                <a:latin typeface="Arial Unicode MS"/>
              </a:rPr>
              <a:t>un chalet</a:t>
            </a:r>
            <a:r>
              <a:rPr b="1" lang="es-ES" sz="1000" spc="-1" strike="noStrike">
                <a:solidFill>
                  <a:srgbClr val="000000"/>
                </a:solidFill>
                <a:latin typeface="Arial Unicode MS"/>
              </a:rPr>
              <a:t> (v. pred. C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 Unicode MS"/>
              </a:rPr>
              <a:t>María </a:t>
            </a:r>
            <a:r>
              <a:rPr b="1" lang="es-ES" sz="1000" spc="-1" strike="noStrike" u="sng">
                <a:solidFill>
                  <a:srgbClr val="000000"/>
                </a:solidFill>
                <a:uFillTx/>
                <a:latin typeface="Arial Unicode MS"/>
              </a:rPr>
              <a:t>se ha hecho</a:t>
            </a:r>
            <a:r>
              <a:rPr b="1" lang="es-ES" sz="1000" spc="-1" strike="noStrike">
                <a:solidFill>
                  <a:srgbClr val="000000"/>
                </a:solidFill>
                <a:latin typeface="Arial Unicode MS"/>
              </a:rPr>
              <a:t> </a:t>
            </a:r>
            <a:r>
              <a:rPr b="1" lang="es-ES" sz="1000" spc="-1" strike="noStrike" u="sng">
                <a:solidFill>
                  <a:srgbClr val="000000"/>
                </a:solidFill>
                <a:uFillTx/>
                <a:latin typeface="Arial Unicode MS"/>
              </a:rPr>
              <a:t>monja </a:t>
            </a:r>
            <a:r>
              <a:rPr b="1" lang="es-ES" sz="1000" spc="-1" strike="noStrike">
                <a:solidFill>
                  <a:srgbClr val="000000"/>
                </a:solidFill>
                <a:latin typeface="Arial Unicode MS"/>
              </a:rPr>
              <a:t>  (v. ½ cop. Atri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 Unicode MS"/>
              </a:rPr>
              <a:t>Juan se </a:t>
            </a:r>
            <a:r>
              <a:rPr b="1" lang="es-ES" sz="1000" spc="-1" strike="noStrike" u="sng">
                <a:solidFill>
                  <a:srgbClr val="000000"/>
                </a:solidFill>
                <a:uFillTx/>
                <a:latin typeface="Arial Unicode MS"/>
              </a:rPr>
              <a:t>encontró</a:t>
            </a:r>
            <a:r>
              <a:rPr b="1" lang="es-ES" sz="1000" spc="-1" strike="noStrike">
                <a:solidFill>
                  <a:srgbClr val="000000"/>
                </a:solidFill>
                <a:latin typeface="Arial Unicode MS"/>
              </a:rPr>
              <a:t> </a:t>
            </a:r>
            <a:r>
              <a:rPr b="1" lang="es-ES" sz="1000" spc="-1" strike="noStrike" u="sng">
                <a:solidFill>
                  <a:srgbClr val="000000"/>
                </a:solidFill>
                <a:uFillTx/>
                <a:latin typeface="Arial Unicode MS"/>
              </a:rPr>
              <a:t>el reloj </a:t>
            </a:r>
            <a:r>
              <a:rPr b="1" lang="es-ES" sz="1000" spc="-1" strike="noStrike">
                <a:solidFill>
                  <a:srgbClr val="000000"/>
                </a:solidFill>
                <a:latin typeface="Arial Unicode MS"/>
              </a:rPr>
              <a:t>(v. pred. C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 u="sng">
                <a:solidFill>
                  <a:srgbClr val="000000"/>
                </a:solidFill>
                <a:uFillTx/>
                <a:latin typeface="Arial Unicode MS"/>
              </a:rPr>
              <a:t>Se encuentra</a:t>
            </a:r>
            <a:r>
              <a:rPr b="1" lang="es-ES" sz="1000" spc="-1" strike="noStrike">
                <a:solidFill>
                  <a:srgbClr val="000000"/>
                </a:solidFill>
                <a:latin typeface="Arial Unicode MS"/>
              </a:rPr>
              <a:t> </a:t>
            </a:r>
            <a:r>
              <a:rPr b="1" lang="es-ES" sz="1000" spc="-1" strike="noStrike" u="sng">
                <a:solidFill>
                  <a:srgbClr val="000000"/>
                </a:solidFill>
                <a:uFillTx/>
                <a:latin typeface="Arial Unicode MS"/>
              </a:rPr>
              <a:t>triste </a:t>
            </a:r>
            <a:r>
              <a:rPr b="1" lang="es-ES" sz="1000" spc="-1" strike="noStrike">
                <a:solidFill>
                  <a:srgbClr val="000000"/>
                </a:solidFill>
                <a:latin typeface="Arial Unicode MS"/>
              </a:rPr>
              <a:t>   (v. ½ cop. Atrib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132000" y="1052640"/>
            <a:ext cx="54723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 Unicode MS"/>
              </a:rPr>
              <a:t>EL ATRIB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El atributo es aquello que se dice del sujeto: </a:t>
            </a:r>
            <a:r>
              <a:rPr b="0" i="1" lang="es-MX" sz="1400" spc="-1" strike="noStrike">
                <a:solidFill>
                  <a:srgbClr val="000000"/>
                </a:solidFill>
                <a:latin typeface="Arial Unicode MS"/>
              </a:rPr>
              <a:t>Juan es simpático</a:t>
            </a: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; </a:t>
            </a:r>
            <a:r>
              <a:rPr b="0" i="1" lang="es-MX" sz="1400" spc="-1" strike="noStrike">
                <a:solidFill>
                  <a:srgbClr val="000000"/>
                </a:solidFill>
                <a:latin typeface="Arial Unicode MS"/>
              </a:rPr>
              <a:t>Ana es mi amiga</a:t>
            </a: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; </a:t>
            </a:r>
            <a:r>
              <a:rPr b="0" i="1" lang="es-MX" sz="1400" spc="-1" strike="noStrike">
                <a:solidFill>
                  <a:srgbClr val="000000"/>
                </a:solidFill>
                <a:latin typeface="Arial Unicode MS"/>
              </a:rPr>
              <a:t>Luis es de Pamplona</a:t>
            </a: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; </a:t>
            </a:r>
            <a:r>
              <a:rPr b="0" i="1" lang="es-MX" sz="1400" spc="-1" strike="noStrike">
                <a:solidFill>
                  <a:srgbClr val="000000"/>
                </a:solidFill>
                <a:latin typeface="Arial Unicode MS"/>
              </a:rPr>
              <a:t>La respuesta fue sí</a:t>
            </a: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... Hay una identificación entre sujeto y atributo: Juan = simpático; Ana = mi amiga; Luis = pamplonés (de Pamplona); La respuesta =  s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 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Como hemos dicho, el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atributo 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es el núcleo de un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predicado nominal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, y expresa una cualidad del sujeto de la frase. Dentro del predicado nominal puede aparecer de las siguientes forma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Como un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S.N.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Carlos es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un embuster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Como un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S.P.: 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Carlos es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de la Indi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Como un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adjetivo o sintagma adjetival.: 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Carlos es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muy buen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Como un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pronombre: 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Carlos es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és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El atributo puede sustituirse por el pronombre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LO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. 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Carlos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lo 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es.</a:t>
            </a:r>
            <a:r>
              <a:rPr b="0" lang="es-ES" sz="11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¿Cómo se reconoce el atributo en una oración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 </a:t>
            </a: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- El verbo del predicado es copulativo o semicopulativo. Hay una identificación entre el sujeto y el atribu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    </a:t>
            </a: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- Se puede pronominalizar por "lo". </a:t>
            </a:r>
            <a:r>
              <a:rPr b="0" i="1" lang="es-MX" sz="1100" spc="-1" strike="noStrike">
                <a:solidFill>
                  <a:srgbClr val="000000"/>
                </a:solidFill>
                <a:latin typeface="Arial Unicode MS"/>
              </a:rPr>
              <a:t>Carmen es mi hermana</a:t>
            </a: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 (Carmen lo es); </a:t>
            </a:r>
            <a:r>
              <a:rPr b="0" i="1" lang="es-MX" sz="1100" spc="-1" strike="noStrike">
                <a:solidFill>
                  <a:srgbClr val="000000"/>
                </a:solidFill>
                <a:latin typeface="Arial Unicode MS"/>
              </a:rPr>
              <a:t>Jaime parece aburrido </a:t>
            </a: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(Jaime lo parece); </a:t>
            </a:r>
            <a:r>
              <a:rPr b="0" i="1" lang="es-MX" sz="1100" spc="-1" strike="noStrike">
                <a:solidFill>
                  <a:srgbClr val="000000"/>
                </a:solidFill>
                <a:latin typeface="Arial Unicode MS"/>
              </a:rPr>
              <a:t>Tus manos están congeladas</a:t>
            </a: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 (Tus manos lo están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 </a:t>
            </a: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En el predicado nominal (PN) no pueden aparecer nunca los siguientes complementos del verbo: complemento directo (CD), complemento predicativo (C.Pvo.), complemento preposicional regido o suplemento (Supl), complemento agente (C.Ag.). Sí puede llevar complementos circunstanciales (CC) y, en ocasiones, complemento indirecto (CI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59280" y="1052640"/>
            <a:ext cx="55450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Arial Unicode MS"/>
              </a:rPr>
              <a:t>EL PREDICADO VER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El verbo del predicado es un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verbo predicativo . 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Podemos decir que un verbo predicativo es todo aquel que no es copulativo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 (ser, estar o parecer)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. En este caso,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el núcleo del predicado verbal es siempre el verbo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Complementos del predicado verb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El predicado se compone del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verbo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más los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complementos 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de éste que completan la información de la oración. Vamos a estudiar los complementos que pueden aparecer en un predicado según la naturaleza del verb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Unicode MS"/>
              </a:rPr>
              <a:t>    </a:t>
            </a:r>
            <a:r>
              <a:rPr b="0" lang="es-MX" sz="1600" spc="-1" strike="noStrike">
                <a:solidFill>
                  <a:srgbClr val="0000cc"/>
                </a:solidFill>
                <a:latin typeface="Arial Unicode MS"/>
              </a:rPr>
              <a:t>- Complemento directo (C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Arial Unicode MS"/>
              </a:rPr>
              <a:t>    </a:t>
            </a:r>
            <a:r>
              <a:rPr b="0" lang="es-MX" sz="1600" spc="-1" strike="noStrike">
                <a:solidFill>
                  <a:srgbClr val="0000cc"/>
                </a:solidFill>
                <a:latin typeface="Arial Unicode MS"/>
              </a:rPr>
              <a:t>- Complemento indirecto (C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Arial Unicode MS"/>
              </a:rPr>
              <a:t>    </a:t>
            </a:r>
            <a:r>
              <a:rPr b="0" lang="es-MX" sz="1600" spc="-1" strike="noStrike">
                <a:solidFill>
                  <a:srgbClr val="0000cc"/>
                </a:solidFill>
                <a:latin typeface="Arial Unicode MS"/>
              </a:rPr>
              <a:t>- Complemento circunstancial (C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Arial Unicode MS"/>
              </a:rPr>
              <a:t>    </a:t>
            </a:r>
            <a:r>
              <a:rPr b="0" lang="es-MX" sz="1600" spc="-1" strike="noStrike">
                <a:solidFill>
                  <a:srgbClr val="0000cc"/>
                </a:solidFill>
                <a:latin typeface="Arial Unicode MS"/>
              </a:rPr>
              <a:t>- Complemento Predicativo (C.Pvo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Arial Unicode MS"/>
              </a:rPr>
              <a:t>   </a:t>
            </a:r>
            <a:r>
              <a:rPr b="0" lang="es-MX" sz="1600" spc="-1" strike="noStrike">
                <a:solidFill>
                  <a:srgbClr val="0000cc"/>
                </a:solidFill>
                <a:latin typeface="Arial Unicode MS"/>
              </a:rPr>
              <a:t>- Suplemento o Complemento Preposicional Regido (Supl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Arial Unicode MS"/>
              </a:rPr>
              <a:t>    </a:t>
            </a:r>
            <a:r>
              <a:rPr b="0" lang="es-MX" sz="1600" spc="-1" strike="noStrike">
                <a:solidFill>
                  <a:srgbClr val="0000cc"/>
                </a:solidFill>
                <a:latin typeface="Arial Unicode MS"/>
              </a:rPr>
              <a:t>- Complemento Agente (C.Ag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132000" y="1052640"/>
            <a:ext cx="54723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 Unicode MS"/>
              </a:rPr>
              <a:t>EL COMPLEMENTO DIR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Complementa la significación de un verbo transitivo. El complemento directo (C.D.) es la persona, animal u objeto sobre quien recae la acción del verbo.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Marina compra </a:t>
            </a:r>
            <a:r>
              <a:rPr b="0" i="1" lang="es-ES_tradnl" sz="1400" spc="-1" strike="noStrike" u="sng">
                <a:solidFill>
                  <a:srgbClr val="000000"/>
                </a:solidFill>
                <a:uFillTx/>
                <a:latin typeface="Arial Unicode MS"/>
              </a:rPr>
              <a:t>regalos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.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IDENTIFICACIÓN DEL COMPLEMENTO DIRE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Para indentificarlo en la oración, podemos aplicar estos recursos: 1- Se puede sustituir por los pronombres átonos LO, LA, LOS, LAS.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Marina los comp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2.- Se pregunta al verbo ¿qué? o ¿qué cosa? es el objeto de la acción.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¿Qué compra Marina? 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Respuesta: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REGAL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3.- Se transforma la oración a voz pasiva. El sujeto de la oración pasiva, es el C.D. de la oración activa.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Marina compra regalos &lt;&lt; Los regalos son comprados por mar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Unicode MS"/>
              </a:rPr>
              <a:t>FORMAS DEL C.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Unicode MS"/>
              </a:rPr>
              <a:t>1.- Como un S.N.: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 Unicode MS"/>
              </a:rPr>
              <a:t>Juanjo estudia </a:t>
            </a:r>
            <a:r>
              <a:rPr b="0" i="1" lang="es-ES_tradnl" sz="1200" spc="-1" strike="noStrike" u="sng">
                <a:solidFill>
                  <a:srgbClr val="000000"/>
                </a:solidFill>
                <a:uFillTx/>
                <a:latin typeface="Arial Unicode MS"/>
              </a:rPr>
              <a:t>la lec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Unicode MS"/>
              </a:rPr>
              <a:t>2.- Como un S.P.: (Cuando es un C.D. de persona. Siempre introducido por la prep. a.).                                                           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 Unicode MS"/>
              </a:rPr>
              <a:t> Remedios ama</a:t>
            </a:r>
            <a:r>
              <a:rPr b="0" i="1" lang="es-ES_tradnl" sz="1200" spc="-1" strike="noStrike" u="sng">
                <a:solidFill>
                  <a:srgbClr val="000000"/>
                </a:solidFill>
                <a:uFillTx/>
                <a:latin typeface="Arial Unicode MS"/>
              </a:rPr>
              <a:t> a Javier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 Unicode MS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Unicode MS"/>
              </a:rPr>
              <a:t>3.- Como un pronombre reflexivo o recíproco (me, te, se, nos, os, se)  siempre que no aparezca otro C.D: </a:t>
            </a:r>
            <a:r>
              <a:rPr b="0" lang="es-ES_tradnl" sz="1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 Unicode MS"/>
              </a:rPr>
              <a:t>Fernando </a:t>
            </a:r>
            <a:r>
              <a:rPr b="0" i="1" lang="es-ES_tradnl" sz="1200" spc="-1" strike="noStrike" u="sng">
                <a:solidFill>
                  <a:srgbClr val="000000"/>
                </a:solidFill>
                <a:uFillTx/>
                <a:latin typeface="Arial Unicode MS"/>
              </a:rPr>
              <a:t>se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 Unicode MS"/>
              </a:rPr>
              <a:t> ducha.  Carmen y yo </a:t>
            </a:r>
            <a:r>
              <a:rPr b="0" i="1" lang="es-ES_tradnl" sz="1200" spc="-1" strike="noStrike" u="sng">
                <a:solidFill>
                  <a:srgbClr val="000000"/>
                </a:solidFill>
                <a:uFillTx/>
                <a:latin typeface="Arial Unicode MS"/>
              </a:rPr>
              <a:t>nos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 Unicode MS"/>
              </a:rPr>
              <a:t> miráb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Unicode MS"/>
              </a:rPr>
              <a:t>4..- Como pronombre personal átono (lo, la, los, las).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 Unicode MS"/>
              </a:rPr>
              <a:t>Yo lo qui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59280" y="1052640"/>
            <a:ext cx="55450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EL COMPLEMENTO INDIR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El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complemento indirecto (C.I.)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es la persona, animal u objeto que recibe el daño o beneficio de la acción. Normalmente se sitúa detrás del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C.D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.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Carlos regala flores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a Isabel. 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Isabel 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es la persona que, en este caso, recibe el beneficio de la acción, es decir,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las flores.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A Isabel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el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Complemento Indirecto.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IDENTIFICACIÓN DEL COMPLEMENTO INDIRE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El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C.I. 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puede sustituirse por los pronombres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le 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o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les,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o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me, te, se, nos, os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(cuando el C.D. también aparezca pronominalizado).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Carlos regala flores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a Isabel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. &lt;&lt;&lt;&lt; Carlos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le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regala flores &lt;&lt;&lt;&lt; Carlos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se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las reg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FORMAS DEL COMPLEMENTO INDIRE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Dentro del predicado verbal, el C.I. puede aparecer com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1.- S.P.:-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Marco canta una canción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a Car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2.- Pronombre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(le, les):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Marco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le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pega un puñetaz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3.- Pronombre 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(me, te,se, nos, os):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Marco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se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lo peg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59280" y="1052640"/>
            <a:ext cx="55450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 indent="144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EL COMPLEMENTO CIRCUNSTA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1440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El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Complemento circunstancial (C.C.)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expresa las diferentes circunstancias en que se realiza la acción del verbo. Estas circunstancias pueden ser de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tiempo, modo, lugar, cantidad, finalidad, compañía e  instrumento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, entre las más usuales. El Complemento circunstancial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puede aparecer tanto dentro de un predicado nominal como de un predicado verb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cc"/>
                </a:solidFill>
                <a:latin typeface="Arial Unicode MS"/>
              </a:rPr>
              <a:t>El complemento circunstancial de tiempo (C.C.T.) 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Expresa una circunstancia de tiempo. Responde a la pregunta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¿cuándo?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Ayer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 vinieron los señores.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¿Cuando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 vinieron los señores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?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 Respuesta, y por lo tanto CCT: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ay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FORMA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DEL C.C.T.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El CCT puede aparecer dentro del predicado de las siguientes forma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1.-Como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SN: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El año pasado 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me divertí much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2.-Como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SPrep.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: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Las pruebas se realizaron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durante el mes de marz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3.-Como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adverbio de tiempo.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Anteayer 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comenzaron las rebajas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cc"/>
                </a:solidFill>
                <a:latin typeface="Arial Unicode MS"/>
              </a:rPr>
              <a:t>El complemento circunstancial de lugar (C.C.L)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Expresa el lugar donde se realiza la acción. Responde a la pregunta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¿dónde? ¿en dónde? ¿por dónde?, etc.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Mis primos viven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en Castellón.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¿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Dónde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 viven mis primos? Respuesta, y por lo tanto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C.C.L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.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en Castelló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FORMA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DEL C.C.L.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El CCL puede aparecer dentro del predicado de las siguientes forma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1.- Como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SPrep.: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Mis primos viven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en Castelló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2.- Como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adverbio de lugar: 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Estuvimos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allí.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32000" y="1052640"/>
            <a:ext cx="54723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cc"/>
                </a:solidFill>
                <a:latin typeface="Arial Unicode MS"/>
              </a:rPr>
              <a:t>El complemento circunstancial de modo o manera</a:t>
            </a:r>
            <a:r>
              <a:rPr b="1" lang="en-GB" sz="1100" spc="-1" strike="noStrike">
                <a:solidFill>
                  <a:srgbClr val="0000cc"/>
                </a:solidFill>
                <a:latin typeface="Arial Unicode MS"/>
              </a:rPr>
              <a:t>(C.C.M) 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El CCM expresa un modo o manera de ralizar la acción verbal. Responde a la pregunta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¿cómo? ¿de qué manera?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Estoy trabajando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con mucha comodidad.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¿Cómo 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estoy trabajando? Respuesta, y por lo tanto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C.C.M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.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con mucha comodid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FORMA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DEL C.C.M.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El CCM puede aparecer dentro del predicado de las siguientes forma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1.- Como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S. prep.: 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Llovía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con mucha fuerz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2.- Como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adverbio de modo: 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Llovía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fuertemente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es-ES_tradnl" sz="1100" spc="-1" strike="noStrike">
                <a:solidFill>
                  <a:srgbClr val="0000cc"/>
                </a:solidFill>
                <a:latin typeface="Arial Unicode MS"/>
              </a:rPr>
              <a:t>El complemento circunstancial de cantidad</a:t>
            </a:r>
            <a:r>
              <a:rPr b="1" lang="en-GB" sz="1100" spc="-1" strike="noStrike">
                <a:solidFill>
                  <a:srgbClr val="0000cc"/>
                </a:solidFill>
                <a:latin typeface="Arial Unicode MS"/>
              </a:rPr>
              <a:t>(C.C.C.) 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Expresa una cantidad dentro del predicado. Responde a la pregunta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¿cuánto?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El profesor sabía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 muchísimo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.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¿Cuánto 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sabía el profesor? La respuesta,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muchísimo,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 será el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CCC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FORMA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DEL C.C.C.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El CCC puede aparecer dentro del predicado de las siguientes forma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1.- Como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SN: 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El profesor sabía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un montó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2.- Como un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adverbio de cantidad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: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El profesor sabía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 muchísimo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cc"/>
                </a:solidFill>
                <a:latin typeface="Arial Unicode MS"/>
              </a:rPr>
              <a:t>El complemento circunstancial de compañía</a:t>
            </a:r>
            <a:r>
              <a:rPr b="1" lang="en-GB" sz="1100" spc="-1" strike="noStrike">
                <a:solidFill>
                  <a:srgbClr val="0000cc"/>
                </a:solidFill>
                <a:latin typeface="Arial Unicode MS"/>
              </a:rPr>
              <a:t>(C.C.COMP.) 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Expresa que la acción se realiza en compañía de alguien. Responde a la pregunta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¿con quién?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Fui a la playa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con mis amigos.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¿Con quién 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fui a la playa? La respuesta es el C.C. de Comp.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con mis amigos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FORMA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DEL C.C.DE COMP.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Sólo puede aparecer en forma de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S.P. 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Fuimos al circo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con mis padres.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Fuimos al circo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en compañia de mis padr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cc"/>
                </a:solidFill>
                <a:latin typeface="Arial Unicode MS"/>
              </a:rPr>
              <a:t>El complemento circunstancial de instrumento</a:t>
            </a:r>
            <a:r>
              <a:rPr b="1" lang="en-GB" sz="1100" spc="-1" strike="noStrike">
                <a:solidFill>
                  <a:srgbClr val="0000cc"/>
                </a:solidFill>
                <a:latin typeface="Arial Unicode MS"/>
              </a:rPr>
              <a:t>(C.C.INST.) 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Expresa el instrumento con que se realiza la acción. Responde a la pregunta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¿con qué?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El cerrajero abrió la puerta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 con las llaves.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¿Con qué 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abrió la puerta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? 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La respuesta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con las llaves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es el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C.C.INS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FORMA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DEL C.C. INST.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Sólo puede aparecer en forma de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S.P. 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Abrió la lata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con el abrelatas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1440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132000" y="1052640"/>
            <a:ext cx="54723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EL COMPLEMENTO PREPOSICIONAL (C.PREP.) O DE RÉGIMEN VERBAL O SUPLE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Algunos verbos, para especificar o concretar su signficado, necesitan un complemento introducido por las preposiciones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 de, a 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o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 en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. Por lo tanto, será siempre un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S.PRE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El complemento suplemento (Supl) es un sintagma nominal introducido por una preposición que necesitan algunos verbos para poder formar el predica­do. Observemos estas oracione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100" spc="-1" strike="noStrike">
                <a:solidFill>
                  <a:srgbClr val="000000"/>
                </a:solidFill>
                <a:latin typeface="Arial Unicode MS"/>
              </a:rPr>
              <a:t>Hablamos inglés. </a:t>
            </a:r>
            <a:r>
              <a:rPr b="0" i="1" lang="es-MX" sz="11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s-MX" sz="1100" spc="-1" strike="noStrike">
                <a:solidFill>
                  <a:srgbClr val="000000"/>
                </a:solidFill>
                <a:latin typeface="Arial Unicode MS"/>
              </a:rPr>
              <a:t>Hablamos de noche. </a:t>
            </a:r>
            <a:r>
              <a:rPr b="0" i="1" lang="es-MX" sz="11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s-MX" sz="1100" spc="-1" strike="noStrike">
                <a:solidFill>
                  <a:srgbClr val="000000"/>
                </a:solidFill>
                <a:latin typeface="Arial Unicode MS"/>
              </a:rPr>
              <a:t>Hablamos de cin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- En la primera oración, tenemos un CD: </a:t>
            </a:r>
            <a:r>
              <a:rPr b="0" i="1" lang="es-MX" sz="1100" spc="-1" strike="noStrike">
                <a:solidFill>
                  <a:srgbClr val="000000"/>
                </a:solidFill>
                <a:latin typeface="Arial Unicode MS"/>
              </a:rPr>
              <a:t>Hablamos inglés - Lo hablamos</a:t>
            </a: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- En la segunda, hay un CC de tiempo: </a:t>
            </a:r>
            <a:r>
              <a:rPr b="0" i="1" lang="es-MX" sz="1100" spc="-1" strike="noStrike">
                <a:solidFill>
                  <a:srgbClr val="000000"/>
                </a:solidFill>
                <a:latin typeface="Arial Unicode MS"/>
              </a:rPr>
              <a:t>de noche</a:t>
            </a: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; este puede sustituirse por un adverbio: </a:t>
            </a:r>
            <a:r>
              <a:rPr b="0" i="1" lang="es-MX" sz="1100" spc="-1" strike="noStrike">
                <a:solidFill>
                  <a:srgbClr val="000000"/>
                </a:solidFill>
                <a:latin typeface="Arial Unicode MS"/>
              </a:rPr>
              <a:t>Hablamos entonces</a:t>
            </a: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- En la tercera, el sintagma </a:t>
            </a:r>
            <a:r>
              <a:rPr b="0" i="1" lang="es-MX" sz="1100" spc="-1" strike="noStrike">
                <a:solidFill>
                  <a:srgbClr val="000000"/>
                </a:solidFill>
                <a:latin typeface="Arial Unicode MS"/>
              </a:rPr>
              <a:t>de cine </a:t>
            </a: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no puede sustituirse ni por el pronombre </a:t>
            </a:r>
            <a:r>
              <a:rPr b="0" i="1" lang="es-MX" sz="1100" spc="-1" strike="noStrike">
                <a:solidFill>
                  <a:srgbClr val="000000"/>
                </a:solidFill>
                <a:latin typeface="Arial Unicode MS"/>
              </a:rPr>
              <a:t>lo</a:t>
            </a: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 (CD), ni por un adverbio: podría sustituirse por </a:t>
            </a:r>
            <a:r>
              <a:rPr b="0" i="1" lang="es-MX" sz="1100" spc="-1" strike="noStrike">
                <a:solidFill>
                  <a:srgbClr val="000000"/>
                </a:solidFill>
                <a:latin typeface="Arial Unicode MS"/>
              </a:rPr>
              <a:t>de ello</a:t>
            </a: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i="1" lang="es-MX" sz="1100" spc="-1" strike="noStrike">
                <a:solidFill>
                  <a:srgbClr val="000000"/>
                </a:solidFill>
                <a:latin typeface="Arial Unicode MS"/>
              </a:rPr>
              <a:t>de eso </a:t>
            </a: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(es decir, un sintagma preposicional formado por la preposición utilizada, aquí </a:t>
            </a:r>
            <a:r>
              <a:rPr b="0" i="1" lang="es-MX" sz="1100" spc="-1" strike="noStrike">
                <a:solidFill>
                  <a:srgbClr val="000000"/>
                </a:solidFill>
                <a:latin typeface="Arial Unicode MS"/>
              </a:rPr>
              <a:t>de</a:t>
            </a: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, más un pronombre). Este tipo de complemento verbal, construido con preposición y absolutamente necesario para que el verbo al que com­plementa pueda funcionar en la oración es el suplement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Comparemos estas dos oraciones: </a:t>
            </a:r>
            <a:r>
              <a:rPr b="0" i="1" lang="es-MX" sz="1100" spc="-1" strike="noStrike">
                <a:solidFill>
                  <a:srgbClr val="000000"/>
                </a:solidFill>
                <a:latin typeface="Arial Unicode MS"/>
              </a:rPr>
              <a:t>Recuerdo aquel pueblo </a:t>
            </a: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y </a:t>
            </a:r>
            <a:r>
              <a:rPr b="0" i="1" lang="es-MX" sz="1100" spc="-1" strike="noStrike">
                <a:solidFill>
                  <a:srgbClr val="000000"/>
                </a:solidFill>
                <a:latin typeface="Arial Unicode MS"/>
              </a:rPr>
              <a:t>Me acuerdo de aquel pueblo</a:t>
            </a: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. Notemos que, en el primer caso, podremos decir </a:t>
            </a:r>
            <a:r>
              <a:rPr b="0" i="1" lang="es-MX" sz="1100" spc="-1" strike="noStrike">
                <a:solidFill>
                  <a:srgbClr val="000000"/>
                </a:solidFill>
                <a:latin typeface="Arial Unicode MS"/>
              </a:rPr>
              <a:t>Lorecuerdo</a:t>
            </a: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. En cambio, en el se­gundo caso, habríamos de decir </a:t>
            </a:r>
            <a:r>
              <a:rPr b="0" i="1" lang="es-MX" sz="1100" spc="-1" strike="noStrike">
                <a:solidFill>
                  <a:srgbClr val="000000"/>
                </a:solidFill>
                <a:latin typeface="Arial Unicode MS"/>
              </a:rPr>
              <a:t>Me acuerdo de él</a:t>
            </a: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Son muchos los verbos que pueden llevar suplemento, pero destacan los verbos pronominales (es decir, los que van siempre acompañados por un pronombre: </a:t>
            </a:r>
            <a:r>
              <a:rPr b="0" i="1" lang="es-MX" sz="1100" spc="-1" strike="noStrike">
                <a:solidFill>
                  <a:srgbClr val="000000"/>
                </a:solidFill>
                <a:latin typeface="Arial Unicode MS"/>
              </a:rPr>
              <a:t>acordarse, quejarse, burlarse</a:t>
            </a: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, etc.). Por lo demás, el suplemento puede ir con diversas preposiciones (no sólo </a:t>
            </a:r>
            <a:r>
              <a:rPr b="0" i="1" lang="es-MX" sz="1100" spc="-1" strike="noStrike">
                <a:solidFill>
                  <a:srgbClr val="000000"/>
                </a:solidFill>
                <a:latin typeface="Arial Unicode MS"/>
              </a:rPr>
              <a:t>de</a:t>
            </a: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32000" y="1052640"/>
            <a:ext cx="54723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EL COMPLEMENTO PREDICATIVO (C. PRE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El C. Pred.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es un complemento del Pred. Verbal que tiene como núcleo un adjetivo que concuerda con el sujeto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. Es igual como el  atributo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de las oraciones copulativas, con la diferencia de que en este caso el verbo es predicativo. La forma del C. Pred. será siempre un S. Adjetival.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Mis amigos viven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felices.      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Mi hermana esperaba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 muy desanimada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una solu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ejemplo: Las atletas llegaron </a:t>
            </a:r>
            <a:r>
              <a:rPr b="1" lang="es-MX" sz="1400" spc="-1" strike="noStrike">
                <a:solidFill>
                  <a:srgbClr val="000000"/>
                </a:solidFill>
                <a:latin typeface="Arial Unicode MS"/>
              </a:rPr>
              <a:t>exhaustas</a:t>
            </a: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El adjetivo exhaustas, por una parte, complementa al </a:t>
            </a:r>
            <a:r>
              <a:rPr b="1" lang="es-MX" sz="1400" spc="-1" strike="noStrike">
                <a:solidFill>
                  <a:srgbClr val="000000"/>
                </a:solidFill>
                <a:latin typeface="Arial Unicode MS"/>
              </a:rPr>
              <a:t>verbo</a:t>
            </a: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 (parece un complemento de modo: nos dice cómo llegaron las atletas: exhaustas). Pero, por otra parte, se relaciona con el sujeto (Las atletas) y concuerda con él en género y número, como el adjetivo atributo en una oración como Las atletas están exhaust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Estamos, pues, ante un "híbrido" de complemento del verbo y de atributo. Recibe el nombre de </a:t>
            </a:r>
            <a:r>
              <a:rPr b="1" lang="es-MX" sz="1400" spc="-1" strike="noStrike">
                <a:solidFill>
                  <a:srgbClr val="000000"/>
                </a:solidFill>
                <a:latin typeface="Arial Unicode MS"/>
              </a:rPr>
              <a:t>complemento predicativo</a:t>
            </a: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 (C.PRED.). He aquí otros ejempl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Él iba </a:t>
            </a:r>
            <a:r>
              <a:rPr b="1" lang="es-MX" sz="1400" spc="-1" strike="noStrike">
                <a:solidFill>
                  <a:srgbClr val="000000"/>
                </a:solidFill>
                <a:latin typeface="Arial Unicode MS"/>
              </a:rPr>
              <a:t>tranquilo</a:t>
            </a: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Ella iba </a:t>
            </a:r>
            <a:r>
              <a:rPr b="1" lang="es-MX" sz="1400" spc="-1" strike="noStrike">
                <a:solidFill>
                  <a:srgbClr val="000000"/>
                </a:solidFill>
                <a:latin typeface="Arial Unicode MS"/>
              </a:rPr>
              <a:t>tranquila</a:t>
            </a: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Ellos iban </a:t>
            </a:r>
            <a:r>
              <a:rPr b="1" lang="es-MX" sz="1400" spc="-1" strike="noStrike">
                <a:solidFill>
                  <a:srgbClr val="000000"/>
                </a:solidFill>
                <a:latin typeface="Arial Unicode MS"/>
              </a:rPr>
              <a:t>tranquil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132000" y="1052640"/>
            <a:ext cx="54723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EL COMPLEMENTO AGENTE (C.A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Es el complemento de una oración en voz pasiva. El verbo estará siempre en voz pasiva. Está siempre introducido por la preposición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 por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. El complemento agente es el sujeto en las oraciones activa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Las instalaciones fueron inauguradas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 por los concejales = C.A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276720" y="1052640"/>
            <a:ext cx="532764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 Unicode MS"/>
              </a:rPr>
              <a:t>LA ORACIÓN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Unicode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La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oración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es la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unidad menor de significación que tiene un sentido completo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. El  elemento principal de la oración es el verbo. Sin el verbo, no puede haber oración, y puede haber oración con sólo enunciar un verbo. La oración acaba en pausa o en punto, es decir, tiene una entonación cerra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Ejempl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Los alumnos estudian las lecciones de gramáti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Cállate.</a:t>
            </a:r>
            <a:r>
              <a:rPr b="0" lang="es-E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32000" y="1052640"/>
            <a:ext cx="5616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TRANSFORMACIÓN DE UNA ORACIÓN ACTIVA A PAS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Para transformar una oración en voz activa a voz pasiva es imprescindible que el verbo principal de la oración activa sea un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 verbo transitivo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. Seguiremos los pasos siguientes a partir del ejemplo::</a:t>
            </a:r>
            <a:r>
              <a:rPr b="1" i="1" lang="es-ES_tradnl" sz="1400" spc="-1" strike="noStrike" u="sng">
                <a:solidFill>
                  <a:srgbClr val="000000"/>
                </a:solidFill>
                <a:uFillTx/>
                <a:latin typeface="Arial Unicode MS"/>
              </a:rPr>
              <a:t>Los niños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 volaban </a:t>
            </a:r>
            <a:r>
              <a:rPr b="1" i="1" lang="es-ES_tradnl" sz="1400" spc="-1" strike="noStrike" u="sng">
                <a:solidFill>
                  <a:srgbClr val="000000"/>
                </a:solidFill>
                <a:uFillTx/>
                <a:latin typeface="Arial Unicode MS"/>
              </a:rPr>
              <a:t>las cometas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 magistral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Unicode MS"/>
              </a:rPr>
              <a:t>1.- Identificamos el sujeto de la oración activa</a:t>
            </a:r>
            <a:r>
              <a:rPr b="0" lang="es-ES_tradnl" sz="12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 Unicode MS"/>
              </a:rPr>
              <a:t>Los niñ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Unicode MS"/>
              </a:rPr>
              <a:t>2.- Identificamos el Complemento directo de la oración activa: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 Unicode MS"/>
              </a:rPr>
              <a:t> las come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Unicode MS"/>
              </a:rPr>
              <a:t>3.- Transformamos el verbo en voz activa a voz pasiva: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 Unicode MS"/>
              </a:rPr>
              <a:t> eran vol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Unicode MS"/>
              </a:rPr>
              <a:t>4.- El complemento Directo de la oración activa, pasa a ser el sujeto de la pasiva: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 Unicode MS"/>
              </a:rPr>
              <a:t> Las come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Unicode MS"/>
              </a:rPr>
              <a:t>5.- Inmediatamente después, ponemos el verbo en voz pasiva, concertado en género y número con su sujeto: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 Unicode MS"/>
              </a:rPr>
              <a:t> eran volad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Unicode MS"/>
              </a:rPr>
              <a:t>6.- El sujeto de la oración activa pasa a ser el Complemento Agente de la pasiva, introducido siempre por la preposición propia POR: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 Unicode MS"/>
              </a:rPr>
              <a:t> por los niñ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Unicode MS"/>
              </a:rPr>
              <a:t>7.- Es conveniente situar los otros complementos (indirectos, circunstanciales, etc.)  después del Complemento Agente: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 Unicode MS"/>
              </a:rPr>
              <a:t>magistralm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Unicode MS"/>
              </a:rPr>
              <a:t>La oración pasiva quedará de la siguiente forma: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 Unicode MS"/>
              </a:rPr>
              <a:t>Las cometas eran voladas por los niños magistralm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700360" y="1052640"/>
            <a:ext cx="5904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EGIO CONCER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ENAL HERRERA 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460760" y="1700280"/>
            <a:ext cx="31356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76720" y="1052640"/>
            <a:ext cx="51829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PARTES DE LA O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La oración se compone de un </a:t>
            </a:r>
            <a:r>
              <a:rPr b="1" lang="es-ES_tradnl" sz="1400" spc="-1" strike="noStrike">
                <a:solidFill>
                  <a:srgbClr val="0000cc"/>
                </a:solidFill>
                <a:latin typeface="Arial Unicode MS"/>
              </a:rPr>
              <a:t>sujeto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y un </a:t>
            </a:r>
            <a:r>
              <a:rPr b="1" lang="es-ES_tradnl" sz="1400" spc="-1" strike="noStrike">
                <a:solidFill>
                  <a:srgbClr val="0000cc"/>
                </a:solidFill>
                <a:latin typeface="Arial Unicode MS"/>
              </a:rPr>
              <a:t>predicado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. 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El elemento principal del sujeto es el </a:t>
            </a:r>
            <a:r>
              <a:rPr b="1" lang="es-ES_tradnl" sz="1400" spc="-1" strike="noStrike">
                <a:solidFill>
                  <a:srgbClr val="0000cc"/>
                </a:solidFill>
                <a:latin typeface="Arial Unicode MS"/>
              </a:rPr>
              <a:t>nombre</a:t>
            </a:r>
            <a:r>
              <a:rPr b="0" lang="es-ES_tradnl" sz="1400" spc="-1" strike="noStrike">
                <a:solidFill>
                  <a:srgbClr val="0000cc"/>
                </a:solidFill>
                <a:latin typeface="Arial Unicode MS"/>
              </a:rPr>
              <a:t>,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y el elemento principal del predicado, es el </a:t>
            </a:r>
            <a:r>
              <a:rPr b="1" lang="es-ES_tradnl" sz="1400" spc="-1" strike="noStrike">
                <a:solidFill>
                  <a:srgbClr val="0000cc"/>
                </a:solidFill>
                <a:latin typeface="Arial Unicode MS"/>
              </a:rPr>
              <a:t>verbo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. Antes de abordar el estudio del sujeto y del predicado es necesario estudiar el </a:t>
            </a:r>
            <a:r>
              <a:rPr b="1" lang="es-ES_tradnl" sz="1400" spc="-1" strike="noStrike">
                <a:solidFill>
                  <a:srgbClr val="0000cc"/>
                </a:solidFill>
                <a:latin typeface="Arial Unicode MS"/>
              </a:rPr>
              <a:t>grupo nominal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porque  puede aparecer en ambas partes de la oración, realizando diferentes funciones sintáctic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32000" y="1052640"/>
            <a:ext cx="547236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 indent="144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144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EL GRUPO N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144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El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grupo nominal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es un conjunto de palabras que se agrupan alrededor del nombre y realizan una misma función sintáctica. El grupo nominal puede ser de dos maner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- El sintagma nominal (S.N.)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Su función sintáctica principal es la de ser el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sujeto 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de una oración, aunque puede realizar otras funciones de complemento, como veremos más adelante. La regla del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sintagma nominal 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es: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SN=(DET) + NOMBRE + (Complemento del nomb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000000"/>
                </a:solidFill>
                <a:uFillTx/>
                <a:latin typeface="Arial Unicode MS"/>
              </a:rPr>
              <a:t>Carlos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 Unicode MS"/>
              </a:rPr>
              <a:t>estudia. SN= N 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 Unicode MS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000000"/>
                </a:solidFill>
                <a:uFillTx/>
                <a:latin typeface="Arial Unicode MS"/>
              </a:rPr>
              <a:t>El perro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 Unicode MS"/>
              </a:rPr>
              <a:t>ladra; SN=DET + N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 Unicode MS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000000"/>
                </a:solidFill>
                <a:uFillTx/>
                <a:latin typeface="Arial Unicode MS"/>
              </a:rPr>
              <a:t>Los pantalones azules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 Unicode MS"/>
              </a:rPr>
              <a:t> están allí. SN= DET + N + 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- El sintagma preposicional (S.P) 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Es un grupo nominal que queda subordinado a una palabra o grupo de palabras por medio de una preposición. Irá siempre, pues,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precedido por una preposición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. Su función sintáctica será siempre la de complemento. La regla del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sintagma preposicional 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es: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SPREP= PREP + (DET) + NOMBRE + (Complemento del nomb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El lápiz </a:t>
            </a:r>
            <a:r>
              <a:rPr b="1" i="1" lang="es-ES_tradnl" sz="1400" spc="-1" strike="noStrike" u="sng">
                <a:solidFill>
                  <a:srgbClr val="000000"/>
                </a:solidFill>
                <a:uFillTx/>
                <a:latin typeface="Arial Unicode MS"/>
              </a:rPr>
              <a:t>de María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está ro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276720" y="1052640"/>
            <a:ext cx="532764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EL SU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El </a:t>
            </a:r>
            <a:r>
              <a:rPr b="1" lang="es-MX" sz="1400" spc="-1" strike="noStrike">
                <a:solidFill>
                  <a:srgbClr val="000000"/>
                </a:solidFill>
                <a:latin typeface="Arial Unicode MS"/>
              </a:rPr>
              <a:t>sujeto</a:t>
            </a: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 es aquel sintagma nominal que concuerda en número y persona con el verbo. El sujeto es "agente" si realiza la acción del verbo (</a:t>
            </a:r>
            <a:r>
              <a:rPr b="0" i="1" lang="es-MX" sz="1400" spc="-1" strike="noStrike">
                <a:solidFill>
                  <a:srgbClr val="000000"/>
                </a:solidFill>
                <a:latin typeface="Arial Unicode MS"/>
              </a:rPr>
              <a:t>Juan come manzanas</a:t>
            </a: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) y es "sujeto paciente" si la recibe </a:t>
            </a:r>
            <a:r>
              <a:rPr b="0" i="1" lang="es-MX" sz="1400" spc="-1" strike="noStrike">
                <a:solidFill>
                  <a:srgbClr val="000000"/>
                </a:solidFill>
                <a:latin typeface="Arial Unicode MS"/>
              </a:rPr>
              <a:t>(Las manzanas son comidas por Juan</a:t>
            </a: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)</a:t>
            </a:r>
            <a:r>
              <a:rPr b="0" i="1" lang="es-MX" sz="1400" spc="-1" strike="noStrike">
                <a:solidFill>
                  <a:srgbClr val="000000"/>
                </a:solidFill>
                <a:latin typeface="Arial Unicode MS"/>
              </a:rPr>
              <a:t>.</a:t>
            </a: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 Cuando analicemos una oración sintácticamente, el sujeto lo expresamos como SN-SUJ (si el sujeto es paciente, en las oraciones pasivas, lo expresamos SN-SUJ PAC). SN significa Sintagma Nomin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Identificación del sujeto de una o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Para identificar el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sujeto 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de una oración preguntaremos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¿quién? 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o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¿quiénes?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al verbo de la oración. La respuesta que obtengamos, será el sujeto.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Las muchachas bailan muy bien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. Para identificar el sujeto haré la siguiente pregunta: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¿Quiénes bailan muy bien? 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Respuesta, y por lo tanto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sujeto: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las muchach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03640" y="1052640"/>
            <a:ext cx="54738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FORMAS DEL SU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El sujeto de una oración simple es siempre un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sintagma nominal,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o un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 pronombre tónico 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(personal, demostrativo, indefinido, posesivo, numeral, etc.)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.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Yo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como. Sujeto =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 Pronombre pers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El niño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 canta. Sujeto =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 S.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El sujeto omit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Muchas veces, al emitir un enunciado no expresamos el sujeto, bien porque lo sobreentendemos, o bien porque se trata de una oración con verbo impersonal y por lo tanto no tiene sujeto. Cuando esto ocurre, decimos que hay un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sujeto omitido.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Así pues, el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sujeto omitido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es aquel que no aparece explícito o expreso en la oración. Al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sujeto omitido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se le llama también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sujeto gramatical.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Me llamaron por teléfono (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S.O.=ellos)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Resbaló en la entrada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(S.O.= é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03640" y="1052640"/>
            <a:ext cx="54738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COMPLEMENTOS DENTRO DEL SU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Hemos dicho que el sujeto es siempre un S.N., y por lo tanto, su núcleo será siempre un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nombre.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Como sabemos, el nombre puede tener un complemento , que es el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Complemento de Nombre. 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El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complemento de nombre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puede aparecer en el sujeto de dos forma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1.- como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adjetivo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El coche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amarillo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es mí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2.- como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sintagma preposicional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La cartera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de mi padre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 es de piel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76720" y="1052640"/>
            <a:ext cx="5472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EL PREDICADO DE UNA O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El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predicado de una oración 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es todo lo que se dice del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sujeto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. </a:t>
            </a: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Señala una acción, proceso o estado.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Podríamos decir que todo lo que no es sujeto, es el predicado. El verbo es el elemento principal del predicado, y  según </a:t>
            </a: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el </a:t>
            </a:r>
            <a:r>
              <a:rPr b="1" lang="es-MX" sz="1400" spc="-1" strike="noStrike">
                <a:solidFill>
                  <a:srgbClr val="000000"/>
                </a:solidFill>
                <a:latin typeface="Arial Unicode MS"/>
              </a:rPr>
              <a:t>verbo</a:t>
            </a: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 (parte principal del predicado) podemos clasificarlo en </a:t>
            </a:r>
            <a:r>
              <a:rPr b="1" lang="es-MX" sz="1400" spc="-1" strike="noStrike">
                <a:solidFill>
                  <a:srgbClr val="000000"/>
                </a:solidFill>
                <a:latin typeface="Arial Unicode MS"/>
              </a:rPr>
              <a:t>Predicado Verbal</a:t>
            </a: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 (el verbo es el núcleo del predicado -</a:t>
            </a:r>
            <a:r>
              <a:rPr b="0" i="1" lang="es-MX" sz="1400" spc="-1" strike="noStrike">
                <a:solidFill>
                  <a:srgbClr val="000000"/>
                </a:solidFill>
                <a:latin typeface="Arial Unicode MS"/>
              </a:rPr>
              <a:t>Juan estudia inglés</a:t>
            </a: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-) y en </a:t>
            </a:r>
            <a:r>
              <a:rPr b="1" lang="es-MX" sz="1400" spc="-1" strike="noStrike">
                <a:solidFill>
                  <a:srgbClr val="000000"/>
                </a:solidFill>
                <a:latin typeface="Arial Unicode MS"/>
              </a:rPr>
              <a:t>Predicado Nominal</a:t>
            </a: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 (el verbo simplemente une el sujeto con el atributo -</a:t>
            </a:r>
            <a:r>
              <a:rPr b="0" i="1" lang="es-MX" sz="1400" spc="-1" strike="noStrike">
                <a:solidFill>
                  <a:srgbClr val="000000"/>
                </a:solidFill>
                <a:latin typeface="Arial Unicode MS"/>
              </a:rPr>
              <a:t>Juan es inteligente</a:t>
            </a: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-). </a:t>
            </a:r>
            <a:r>
              <a:rPr b="0" i="1" lang="es-MX" sz="1400" spc="-1" strike="noStrike">
                <a:solidFill>
                  <a:srgbClr val="000000"/>
                </a:solidFill>
                <a:latin typeface="Arial Unicode MS"/>
              </a:rPr>
              <a:t>Al analizar escribiremos SV-PV o SV-PN (Sintagma Verbal Predicado Verbal o Predicado Nominal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03640" y="1052640"/>
            <a:ext cx="5400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 Unicode MS"/>
              </a:rPr>
              <a:t>EL PREDICADO N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Si el verbo del predicado es un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verbo copulativo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, entonces el predicado será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nominal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, y su núcleo, será el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atributo. 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Se le llama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predicado nominal, 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porque en dicho predicado aparece un atributo o característica del sujeto. Aquí el verbo sirve únicamente como elemento de enlace entre el sujeto y el atribut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Las niñas parecen cansadas.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Parecen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une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las niñas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con el atributo de éstas,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cansadas.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1T00:47:43Z</dcterms:created>
  <dc:creator>Pepe Portillo</dc:creator>
  <dc:description/>
  <dc:language>en-US</dc:language>
  <cp:lastModifiedBy>Pepe Portillo</cp:lastModifiedBy>
  <dcterms:modified xsi:type="dcterms:W3CDTF">2011-07-07T17:43:20Z</dcterms:modified>
  <cp:revision>189</cp:revision>
  <dc:subject/>
  <dc:title>Diapositiva 1</dc:title>
</cp:coreProperties>
</file>